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0EC-73C1-4DBF-BDD7-9CDCE26F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EFB-8807-4B5A-95F5-280FAA5B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43A-366D-480A-B4D9-8AA76CF4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862-9363-43AF-B754-7CDAA084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799-E90A-4B7F-955A-1C1A823C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AB2-CE29-45EE-8C13-9B302F4C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AA0-5544-47E1-B58D-B2A331CF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338-7911-41D4-A569-7CE3FAC7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CAE-C095-4EFB-8C89-5B44A2C1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8E8-3BBB-4C05-9787-7427A3AB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82D-DC0F-4D1A-B426-D9D17D51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025-A7BE-4344-A2E6-FEE43555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3E99-8598-4648-9A78-AABEC837E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14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Digging Deep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Life of Christ,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A 13-week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or use with the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Life of Chris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ruth for Today Comment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by David L. 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33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rayal, Arrest, and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: the Day of Jesus’ Death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833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th and Burial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: the Day of Jesus’ Death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6120"/>
            <a:ext cx="91440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th and Burial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: the Day of Jesus’ Death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day: the Day after Jesus’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7:62–66; Lk. 23:56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us’ Resurrection, Appearances, and Ascension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day: the Day of Jesus’ Resu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8:1–8; Mk. 16:1–8; Lk. 24:1–12; Jn. 20:1–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1034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us’ Resurrection, Appearances, and Ascension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ty Days (Mt. 28:9–20; Mk. 16:9–19; Lk. 24:13–5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. 20:11—21:24; see Acts 1: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Statements (Jn. 20:30, 31; 21:25; Mk. 16:2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k. 24:52, 53; Acts 1: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50960" y="146160"/>
            <a:ext cx="207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HEROD’S TE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92440" y="1616040"/>
            <a:ext cx="3822840" cy="3975120"/>
          </a:xfrm>
          <a:custGeom>
            <a:avLst/>
            <a:gdLst/>
            <a:ahLst/>
            <a:rect l="l" t="t" r="r" b="b"/>
            <a:pathLst>
              <a:path w="2408" h="2504">
                <a:moveTo>
                  <a:pt x="2408" y="0"/>
                </a:moveTo>
                <a:lnTo>
                  <a:pt x="2200" y="2504"/>
                </a:lnTo>
                <a:lnTo>
                  <a:pt x="0" y="2504"/>
                </a:lnTo>
                <a:lnTo>
                  <a:pt x="16" y="0"/>
                </a:lnTo>
                <a:lnTo>
                  <a:pt x="2408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09960" y="1870200"/>
            <a:ext cx="3225600" cy="3429000"/>
          </a:xfrm>
          <a:custGeom>
            <a:avLst/>
            <a:gdLst/>
            <a:ahLst/>
            <a:rect l="l" t="t" r="r" b="b"/>
            <a:pathLst>
              <a:path w="2032" h="2160">
                <a:moveTo>
                  <a:pt x="0" y="16"/>
                </a:moveTo>
                <a:lnTo>
                  <a:pt x="2032" y="0"/>
                </a:lnTo>
                <a:lnTo>
                  <a:pt x="1840" y="2160"/>
                </a:lnTo>
                <a:lnTo>
                  <a:pt x="0" y="216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92440" y="1590840"/>
            <a:ext cx="3822840" cy="3974760"/>
          </a:xfrm>
          <a:custGeom>
            <a:avLst/>
            <a:gdLst/>
            <a:ahLst/>
            <a:rect l="l" t="t" r="r" b="b"/>
            <a:pathLst>
              <a:path w="2408" h="2504">
                <a:moveTo>
                  <a:pt x="2408" y="0"/>
                </a:moveTo>
                <a:lnTo>
                  <a:pt x="2200" y="2504"/>
                </a:lnTo>
                <a:lnTo>
                  <a:pt x="0" y="2504"/>
                </a:lnTo>
                <a:lnTo>
                  <a:pt x="8" y="0"/>
                </a:lnTo>
                <a:lnTo>
                  <a:pt x="24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29080" y="1362240"/>
            <a:ext cx="647640" cy="330120"/>
          </a:xfrm>
          <a:custGeom>
            <a:avLst/>
            <a:gdLst/>
            <a:ahLst/>
            <a:rect l="l" t="t" r="r" b="b"/>
            <a:pathLst>
              <a:path w="408" h="208">
                <a:moveTo>
                  <a:pt x="408" y="144"/>
                </a:moveTo>
                <a:lnTo>
                  <a:pt x="408" y="0"/>
                </a:lnTo>
                <a:lnTo>
                  <a:pt x="0" y="0"/>
                </a:lnTo>
                <a:lnTo>
                  <a:pt x="0" y="208"/>
                </a:lnTo>
                <a:lnTo>
                  <a:pt x="40" y="20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6480" y="2276640"/>
            <a:ext cx="152280" cy="1180800"/>
          </a:xfrm>
          <a:custGeom>
            <a:avLst/>
            <a:gdLst/>
            <a:ahLst/>
            <a:rect l="l" t="t" r="r" b="b"/>
            <a:pathLst>
              <a:path w="96" h="744">
                <a:moveTo>
                  <a:pt x="0" y="472"/>
                </a:moveTo>
                <a:lnTo>
                  <a:pt x="0" y="744"/>
                </a:lnTo>
                <a:lnTo>
                  <a:pt x="0" y="464"/>
                </a:lnTo>
                <a:lnTo>
                  <a:pt x="40" y="464"/>
                </a:lnTo>
                <a:lnTo>
                  <a:pt x="64" y="440"/>
                </a:lnTo>
                <a:lnTo>
                  <a:pt x="88" y="408"/>
                </a:lnTo>
                <a:lnTo>
                  <a:pt x="96" y="368"/>
                </a:lnTo>
                <a:lnTo>
                  <a:pt x="88" y="328"/>
                </a:lnTo>
                <a:lnTo>
                  <a:pt x="72" y="296"/>
                </a:lnTo>
                <a:lnTo>
                  <a:pt x="40" y="280"/>
                </a:lnTo>
                <a:lnTo>
                  <a:pt x="0" y="264"/>
                </a:lnTo>
                <a:lnTo>
                  <a:pt x="0" y="0"/>
                </a:lnTo>
                <a:lnTo>
                  <a:pt x="0" y="26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18280" y="107964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T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1280" y="1206360"/>
            <a:ext cx="56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O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4400" y="2933640"/>
            <a:ext cx="45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0120" y="306072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43160" y="3187800"/>
            <a:ext cx="49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38320" y="369576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92480" y="36957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6200" y="3835440"/>
            <a:ext cx="41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03080" y="372096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7209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76160" y="384804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40080" y="3975120"/>
            <a:ext cx="46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67160" y="2505240"/>
            <a:ext cx="711000" cy="723600"/>
          </a:xfrm>
          <a:custGeom>
            <a:avLst/>
            <a:gdLst/>
            <a:ahLst/>
            <a:rect l="l" t="t" r="r" b="b"/>
            <a:pathLst>
              <a:path w="448" h="456">
                <a:moveTo>
                  <a:pt x="448" y="184"/>
                </a:moveTo>
                <a:lnTo>
                  <a:pt x="448" y="0"/>
                </a:lnTo>
                <a:lnTo>
                  <a:pt x="368" y="0"/>
                </a:lnTo>
                <a:lnTo>
                  <a:pt x="368" y="176"/>
                </a:lnTo>
                <a:lnTo>
                  <a:pt x="0" y="176"/>
                </a:lnTo>
                <a:lnTo>
                  <a:pt x="0" y="296"/>
                </a:lnTo>
                <a:lnTo>
                  <a:pt x="360" y="296"/>
                </a:lnTo>
                <a:lnTo>
                  <a:pt x="360" y="456"/>
                </a:lnTo>
                <a:lnTo>
                  <a:pt x="448" y="456"/>
                </a:lnTo>
                <a:lnTo>
                  <a:pt x="448" y="27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708360" y="2784600"/>
            <a:ext cx="180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67160" y="2657520"/>
            <a:ext cx="584280" cy="127080"/>
          </a:xfrm>
          <a:custGeom>
            <a:avLst/>
            <a:gdLst/>
            <a:ahLst/>
            <a:rect l="l" t="t" r="r" b="b"/>
            <a:pathLst>
              <a:path w="368" h="80">
                <a:moveTo>
                  <a:pt x="0" y="80"/>
                </a:moveTo>
                <a:lnTo>
                  <a:pt x="0" y="0"/>
                </a:lnTo>
                <a:lnTo>
                  <a:pt x="36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68680" y="2670120"/>
            <a:ext cx="144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75120" y="2657520"/>
            <a:ext cx="144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45000" y="2670120"/>
            <a:ext cx="144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5440" y="2657520"/>
            <a:ext cx="144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11760" y="267012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2670120"/>
            <a:ext cx="180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72080" y="2670120"/>
            <a:ext cx="144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68680" y="2975040"/>
            <a:ext cx="144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75120" y="2962440"/>
            <a:ext cx="144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45000" y="2975040"/>
            <a:ext cx="144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48040" y="30765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11760" y="2975040"/>
            <a:ext cx="144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0960" y="2962440"/>
            <a:ext cx="180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84680" y="2975040"/>
            <a:ext cx="144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67160" y="2975040"/>
            <a:ext cx="584280" cy="114120"/>
          </a:xfrm>
          <a:custGeom>
            <a:avLst/>
            <a:gdLst/>
            <a:ahLst/>
            <a:rect l="l" t="t" r="r" b="b"/>
            <a:pathLst>
              <a:path w="368" h="72">
                <a:moveTo>
                  <a:pt x="0" y="0"/>
                </a:moveTo>
                <a:lnTo>
                  <a:pt x="0" y="72"/>
                </a:lnTo>
                <a:lnTo>
                  <a:pt x="368" y="7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41880" y="3000240"/>
            <a:ext cx="139680" cy="127080"/>
          </a:xfrm>
          <a:custGeom>
            <a:avLst/>
            <a:gdLst/>
            <a:ahLst/>
            <a:rect l="l" t="t" r="r" b="b"/>
            <a:pathLst>
              <a:path w="88" h="80">
                <a:moveTo>
                  <a:pt x="0" y="40"/>
                </a:moveTo>
                <a:lnTo>
                  <a:pt x="16" y="8"/>
                </a:lnTo>
                <a:lnTo>
                  <a:pt x="48" y="0"/>
                </a:lnTo>
                <a:lnTo>
                  <a:pt x="80" y="8"/>
                </a:lnTo>
                <a:lnTo>
                  <a:pt x="88" y="40"/>
                </a:lnTo>
                <a:lnTo>
                  <a:pt x="80" y="72"/>
                </a:lnTo>
                <a:lnTo>
                  <a:pt x="48" y="80"/>
                </a:lnTo>
                <a:lnTo>
                  <a:pt x="16" y="72"/>
                </a:lnTo>
                <a:lnTo>
                  <a:pt x="0" y="4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43480" y="2936880"/>
            <a:ext cx="144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17920" y="2873520"/>
            <a:ext cx="50760" cy="63360"/>
          </a:xfrm>
          <a:custGeom>
            <a:avLst/>
            <a:gdLst/>
            <a:ahLst/>
            <a:rect l="l" t="t" r="r" b="b"/>
            <a:pathLst>
              <a:path w="32" h="40">
                <a:moveTo>
                  <a:pt x="16" y="40"/>
                </a:moveTo>
                <a:lnTo>
                  <a:pt x="0" y="40"/>
                </a:lnTo>
                <a:lnTo>
                  <a:pt x="16" y="0"/>
                </a:lnTo>
                <a:lnTo>
                  <a:pt x="32" y="40"/>
                </a:lnTo>
                <a:lnTo>
                  <a:pt x="1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49560" y="2923920"/>
            <a:ext cx="180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287352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40"/>
                </a:moveTo>
                <a:lnTo>
                  <a:pt x="0" y="40"/>
                </a:lnTo>
                <a:lnTo>
                  <a:pt x="16" y="0"/>
                </a:lnTo>
                <a:lnTo>
                  <a:pt x="40" y="40"/>
                </a:lnTo>
                <a:lnTo>
                  <a:pt x="1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48040" y="2975040"/>
            <a:ext cx="180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41880" y="2746440"/>
            <a:ext cx="139680" cy="12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30880" y="1778040"/>
            <a:ext cx="45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4320" y="1905120"/>
            <a:ext cx="69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 ISRA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0840" y="3559320"/>
            <a:ext cx="190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22840" y="3559320"/>
            <a:ext cx="190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05240" y="3559320"/>
            <a:ext cx="203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56280" y="3559320"/>
            <a:ext cx="190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8360" y="260352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0160" y="3162240"/>
            <a:ext cx="41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048040"/>
            <a:ext cx="144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20960" y="2327400"/>
            <a:ext cx="51120" cy="63360"/>
          </a:xfrm>
          <a:custGeom>
            <a:avLst/>
            <a:gdLst/>
            <a:ahLst/>
            <a:rect l="l" t="t" r="r" b="b"/>
            <a:pathLst>
              <a:path w="32" h="40">
                <a:moveTo>
                  <a:pt x="8" y="0"/>
                </a:moveTo>
                <a:lnTo>
                  <a:pt x="32" y="0"/>
                </a:lnTo>
                <a:lnTo>
                  <a:pt x="8" y="40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20520" y="2716200"/>
            <a:ext cx="69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UTIF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28960" y="2374920"/>
            <a:ext cx="45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79560" y="25020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RI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6040" y="2490840"/>
            <a:ext cx="10144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30520" y="2467080"/>
            <a:ext cx="63720" cy="5076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16"/>
                </a:moveTo>
                <a:lnTo>
                  <a:pt x="0" y="0"/>
                </a:lnTo>
                <a:lnTo>
                  <a:pt x="40" y="16"/>
                </a:lnTo>
                <a:lnTo>
                  <a:pt x="0" y="32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2320" y="4305240"/>
            <a:ext cx="45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09480" y="443232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76560" y="455940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T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67240" y="3797280"/>
            <a:ext cx="57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8480" y="392436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0" y="4051440"/>
            <a:ext cx="6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O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3952800"/>
            <a:ext cx="216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46640" y="3927600"/>
            <a:ext cx="76320" cy="50760"/>
          </a:xfrm>
          <a:custGeom>
            <a:avLst/>
            <a:gdLst/>
            <a:ahLst/>
            <a:rect l="l" t="t" r="r" b="b"/>
            <a:pathLst>
              <a:path w="48" h="32">
                <a:moveTo>
                  <a:pt x="0" y="16"/>
                </a:moveTo>
                <a:lnTo>
                  <a:pt x="0" y="0"/>
                </a:lnTo>
                <a:lnTo>
                  <a:pt x="48" y="16"/>
                </a:lnTo>
                <a:lnTo>
                  <a:pt x="0" y="32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36560" y="632628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73560" y="3306600"/>
            <a:ext cx="111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73560" y="2421000"/>
            <a:ext cx="0" cy="885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73560" y="2421000"/>
            <a:ext cx="112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7480" y="242100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7480" y="27511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740560" y="2274840"/>
            <a:ext cx="0" cy="4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227040" y="2262240"/>
            <a:ext cx="251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14800" y="2262240"/>
            <a:ext cx="0" cy="117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14800" y="3440160"/>
            <a:ext cx="252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40560" y="3003120"/>
            <a:ext cx="0" cy="43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32360" y="3003480"/>
            <a:ext cx="0" cy="52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147840" y="3544920"/>
            <a:ext cx="268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147840" y="2169720"/>
            <a:ext cx="0" cy="137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7840" y="2170080"/>
            <a:ext cx="268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34160" y="2168640"/>
            <a:ext cx="0" cy="53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5760" y="2151000"/>
            <a:ext cx="203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87600" y="2143080"/>
            <a:ext cx="203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46600" y="2149560"/>
            <a:ext cx="203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9520" y="2151000"/>
            <a:ext cx="2030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flipV="1">
            <a:off x="7456320" y="1049040"/>
            <a:ext cx="180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32160" y="1893960"/>
            <a:ext cx="747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SABB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t. 27:6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Lk. 23: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5360" y="205884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An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" y="3506760"/>
            <a:ext cx="5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8360" y="4925880"/>
            <a:ext cx="479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U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57120" y="1411200"/>
            <a:ext cx="11498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He has ris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t. 28:1–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ark 16:1–6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Lk. 24:1–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Jn. 20:1–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24880" y="1360440"/>
            <a:ext cx="70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Caiap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19760" y="1957320"/>
            <a:ext cx="44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Pi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41200" y="2629080"/>
            <a:ext cx="713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Cruc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9 a.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k. 15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23480" y="3581280"/>
            <a:ext cx="1006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3 p.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t. 27:46–5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k. 15:33–37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Lk. 23:44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14480" y="4815000"/>
            <a:ext cx="960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T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k. 15:42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Lk. 23:50–5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t. 27:57–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840" y="5862600"/>
            <a:ext cx="8661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4840" y="1049400"/>
            <a:ext cx="8674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19240" y="1049400"/>
            <a:ext cx="1440" cy="482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22200" y="108108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A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24760" y="2979720"/>
            <a:ext cx="2516040" cy="23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78400" y="3084480"/>
            <a:ext cx="241776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chart is based on Jewish reckoning of time. A new day began at sundown—about 6:00 p.m. The phrases used in the Scriptures (such as “third hour” and “ninth hour”) have been translated into modern terms (“9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.m.” and “3:00 p.m.”). (Adapted From Dr. Nat Cooper, </a:t>
            </a:r>
            <a:r>
              <a:rPr b="0" i="1" lang="en-US" sz="1200" spc="-1" strike="noStrike">
                <a:solidFill>
                  <a:srgbClr val="000000"/>
                </a:solidFill>
                <a:latin typeface="Palatino"/>
              </a:rPr>
              <a:t>A Stu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alatino"/>
              </a:rPr>
              <a:t>of the Life of Christ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[Lubbock, Tex: Sunset International Bible Institute, n.d.], 54. Used with permissio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19000" y="442116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5440" y="442116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92200" y="442116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96760" y="442116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56880" y="45482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5480" y="4548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4200" y="5665680"/>
            <a:ext cx="37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02280" y="5665680"/>
            <a:ext cx="37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3320" y="5665680"/>
            <a:ext cx="37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64880" y="108108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A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82000" y="108108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A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12000" y="471600"/>
            <a:ext cx="417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THREE DAYS AND NIGHTS IN THE TO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9520" y="83988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FRI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3080" y="839880"/>
            <a:ext cx="100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ATUR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40440" y="839880"/>
            <a:ext cx="7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5040" y="621180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989440" y="1628640"/>
            <a:ext cx="4670280" cy="3733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961920" y="37447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974880" y="2307960"/>
            <a:ext cx="0" cy="113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949320" y="1436400"/>
            <a:ext cx="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61920" y="1436760"/>
            <a:ext cx="39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55680" y="143676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1436760"/>
            <a:ext cx="0" cy="41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00480" y="2193840"/>
            <a:ext cx="0" cy="38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25680" y="318132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25680" y="4502160"/>
            <a:ext cx="0" cy="25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9520" y="214164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89600" y="214164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68720" y="1060560"/>
            <a:ext cx="1440" cy="481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068880" y="1060560"/>
            <a:ext cx="1800" cy="481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864640" y="1058400"/>
            <a:ext cx="1440" cy="481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03600" y="105264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03600" y="2489040"/>
            <a:ext cx="0" cy="338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27200" y="105732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27200" y="1636560"/>
            <a:ext cx="0" cy="42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30560" y="0"/>
            <a:ext cx="467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2347920" y="0"/>
            <a:ext cx="3745080" cy="6724800"/>
            <a:chOff x="2347920" y="0"/>
            <a:chExt cx="3745080" cy="6724800"/>
          </a:xfrm>
        </p:grpSpPr>
        <p:sp>
          <p:nvSpPr>
            <p:cNvPr id="194" name=""/>
            <p:cNvSpPr/>
            <p:nvPr/>
          </p:nvSpPr>
          <p:spPr>
            <a:xfrm>
              <a:off x="2347920" y="0"/>
              <a:ext cx="2206440" cy="5445000"/>
            </a:xfrm>
            <a:custGeom>
              <a:avLst/>
              <a:gdLst/>
              <a:ahLst/>
              <a:rect l="l" t="t" r="r" b="b"/>
              <a:pathLst>
                <a:path w="1390" h="3430">
                  <a:moveTo>
                    <a:pt x="1390" y="0"/>
                  </a:moveTo>
                  <a:lnTo>
                    <a:pt x="1372" y="60"/>
                  </a:lnTo>
                  <a:lnTo>
                    <a:pt x="1354" y="114"/>
                  </a:lnTo>
                  <a:lnTo>
                    <a:pt x="1324" y="162"/>
                  </a:lnTo>
                  <a:lnTo>
                    <a:pt x="1276" y="205"/>
                  </a:lnTo>
                  <a:lnTo>
                    <a:pt x="1252" y="223"/>
                  </a:lnTo>
                  <a:lnTo>
                    <a:pt x="1228" y="247"/>
                  </a:lnTo>
                  <a:lnTo>
                    <a:pt x="1216" y="283"/>
                  </a:lnTo>
                  <a:lnTo>
                    <a:pt x="1216" y="319"/>
                  </a:lnTo>
                  <a:lnTo>
                    <a:pt x="1210" y="349"/>
                  </a:lnTo>
                  <a:lnTo>
                    <a:pt x="1204" y="385"/>
                  </a:lnTo>
                  <a:lnTo>
                    <a:pt x="1161" y="439"/>
                  </a:lnTo>
                  <a:lnTo>
                    <a:pt x="1131" y="493"/>
                  </a:lnTo>
                  <a:lnTo>
                    <a:pt x="1131" y="548"/>
                  </a:lnTo>
                  <a:lnTo>
                    <a:pt x="1143" y="602"/>
                  </a:lnTo>
                  <a:lnTo>
                    <a:pt x="1131" y="626"/>
                  </a:lnTo>
                  <a:lnTo>
                    <a:pt x="1113" y="644"/>
                  </a:lnTo>
                  <a:lnTo>
                    <a:pt x="1083" y="668"/>
                  </a:lnTo>
                  <a:lnTo>
                    <a:pt x="1065" y="692"/>
                  </a:lnTo>
                  <a:lnTo>
                    <a:pt x="1047" y="782"/>
                  </a:lnTo>
                  <a:lnTo>
                    <a:pt x="1041" y="818"/>
                  </a:lnTo>
                  <a:lnTo>
                    <a:pt x="1029" y="854"/>
                  </a:lnTo>
                  <a:lnTo>
                    <a:pt x="969" y="945"/>
                  </a:lnTo>
                  <a:lnTo>
                    <a:pt x="945" y="993"/>
                  </a:lnTo>
                  <a:lnTo>
                    <a:pt x="933" y="1059"/>
                  </a:lnTo>
                  <a:lnTo>
                    <a:pt x="945" y="1149"/>
                  </a:lnTo>
                  <a:lnTo>
                    <a:pt x="939" y="1203"/>
                  </a:lnTo>
                  <a:lnTo>
                    <a:pt x="921" y="1252"/>
                  </a:lnTo>
                  <a:lnTo>
                    <a:pt x="903" y="1282"/>
                  </a:lnTo>
                  <a:lnTo>
                    <a:pt x="879" y="1300"/>
                  </a:lnTo>
                  <a:lnTo>
                    <a:pt x="861" y="1294"/>
                  </a:lnTo>
                  <a:lnTo>
                    <a:pt x="849" y="1282"/>
                  </a:lnTo>
                  <a:lnTo>
                    <a:pt x="837" y="1264"/>
                  </a:lnTo>
                  <a:lnTo>
                    <a:pt x="812" y="1258"/>
                  </a:lnTo>
                  <a:lnTo>
                    <a:pt x="788" y="1270"/>
                  </a:lnTo>
                  <a:lnTo>
                    <a:pt x="782" y="1288"/>
                  </a:lnTo>
                  <a:lnTo>
                    <a:pt x="788" y="1324"/>
                  </a:lnTo>
                  <a:lnTo>
                    <a:pt x="782" y="1396"/>
                  </a:lnTo>
                  <a:lnTo>
                    <a:pt x="746" y="1468"/>
                  </a:lnTo>
                  <a:lnTo>
                    <a:pt x="728" y="1534"/>
                  </a:lnTo>
                  <a:lnTo>
                    <a:pt x="716" y="1607"/>
                  </a:lnTo>
                  <a:lnTo>
                    <a:pt x="692" y="1769"/>
                  </a:lnTo>
                  <a:lnTo>
                    <a:pt x="662" y="1920"/>
                  </a:lnTo>
                  <a:lnTo>
                    <a:pt x="530" y="2371"/>
                  </a:lnTo>
                  <a:lnTo>
                    <a:pt x="457" y="2630"/>
                  </a:lnTo>
                  <a:lnTo>
                    <a:pt x="355" y="2870"/>
                  </a:lnTo>
                  <a:lnTo>
                    <a:pt x="211" y="3135"/>
                  </a:lnTo>
                  <a:lnTo>
                    <a:pt x="109" y="3285"/>
                  </a:lnTo>
                  <a:lnTo>
                    <a:pt x="0" y="34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84920" y="706320"/>
              <a:ext cx="66600" cy="592200"/>
            </a:xfrm>
            <a:custGeom>
              <a:avLst/>
              <a:gdLst/>
              <a:ahLst/>
              <a:rect l="l" t="t" r="r" b="b"/>
              <a:pathLst>
                <a:path w="42" h="373">
                  <a:moveTo>
                    <a:pt x="24" y="0"/>
                  </a:moveTo>
                  <a:lnTo>
                    <a:pt x="24" y="48"/>
                  </a:lnTo>
                  <a:lnTo>
                    <a:pt x="12" y="79"/>
                  </a:lnTo>
                  <a:lnTo>
                    <a:pt x="18" y="115"/>
                  </a:lnTo>
                  <a:lnTo>
                    <a:pt x="30" y="151"/>
                  </a:lnTo>
                  <a:lnTo>
                    <a:pt x="18" y="187"/>
                  </a:lnTo>
                  <a:lnTo>
                    <a:pt x="30" y="205"/>
                  </a:lnTo>
                  <a:lnTo>
                    <a:pt x="42" y="229"/>
                  </a:lnTo>
                  <a:lnTo>
                    <a:pt x="18" y="259"/>
                  </a:lnTo>
                  <a:lnTo>
                    <a:pt x="6" y="277"/>
                  </a:lnTo>
                  <a:lnTo>
                    <a:pt x="0" y="289"/>
                  </a:lnTo>
                  <a:lnTo>
                    <a:pt x="6" y="307"/>
                  </a:lnTo>
                  <a:lnTo>
                    <a:pt x="18" y="325"/>
                  </a:lnTo>
                  <a:lnTo>
                    <a:pt x="30" y="349"/>
                  </a:lnTo>
                  <a:lnTo>
                    <a:pt x="30" y="37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51520" y="1452600"/>
              <a:ext cx="28440" cy="342720"/>
            </a:xfrm>
            <a:custGeom>
              <a:avLst/>
              <a:gdLst/>
              <a:ahLst/>
              <a:rect l="l" t="t" r="r" b="b"/>
              <a:pathLst>
                <a:path w="18" h="216">
                  <a:moveTo>
                    <a:pt x="18" y="0"/>
                  </a:moveTo>
                  <a:lnTo>
                    <a:pt x="0" y="102"/>
                  </a:lnTo>
                  <a:lnTo>
                    <a:pt x="0" y="114"/>
                  </a:lnTo>
                  <a:lnTo>
                    <a:pt x="0" y="162"/>
                  </a:lnTo>
                  <a:lnTo>
                    <a:pt x="12" y="2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87760" y="4660920"/>
              <a:ext cx="563760" cy="2063880"/>
            </a:xfrm>
            <a:custGeom>
              <a:avLst/>
              <a:gdLst/>
              <a:ahLst/>
              <a:rect l="l" t="t" r="r" b="b"/>
              <a:pathLst>
                <a:path w="355" h="1300">
                  <a:moveTo>
                    <a:pt x="343" y="1162"/>
                  </a:moveTo>
                  <a:lnTo>
                    <a:pt x="343" y="1174"/>
                  </a:lnTo>
                  <a:lnTo>
                    <a:pt x="349" y="1198"/>
                  </a:lnTo>
                  <a:lnTo>
                    <a:pt x="337" y="1240"/>
                  </a:lnTo>
                  <a:lnTo>
                    <a:pt x="313" y="1270"/>
                  </a:lnTo>
                  <a:lnTo>
                    <a:pt x="277" y="1294"/>
                  </a:lnTo>
                  <a:lnTo>
                    <a:pt x="235" y="1300"/>
                  </a:lnTo>
                  <a:lnTo>
                    <a:pt x="168" y="1288"/>
                  </a:lnTo>
                  <a:lnTo>
                    <a:pt x="120" y="1252"/>
                  </a:lnTo>
                  <a:lnTo>
                    <a:pt x="60" y="1186"/>
                  </a:lnTo>
                  <a:lnTo>
                    <a:pt x="24" y="1102"/>
                  </a:lnTo>
                  <a:lnTo>
                    <a:pt x="12" y="951"/>
                  </a:lnTo>
                  <a:lnTo>
                    <a:pt x="0" y="909"/>
                  </a:lnTo>
                  <a:lnTo>
                    <a:pt x="6" y="897"/>
                  </a:lnTo>
                  <a:lnTo>
                    <a:pt x="18" y="885"/>
                  </a:lnTo>
                  <a:lnTo>
                    <a:pt x="30" y="879"/>
                  </a:lnTo>
                  <a:lnTo>
                    <a:pt x="36" y="867"/>
                  </a:lnTo>
                  <a:lnTo>
                    <a:pt x="24" y="843"/>
                  </a:lnTo>
                  <a:lnTo>
                    <a:pt x="36" y="825"/>
                  </a:lnTo>
                  <a:lnTo>
                    <a:pt x="48" y="807"/>
                  </a:lnTo>
                  <a:lnTo>
                    <a:pt x="66" y="771"/>
                  </a:lnTo>
                  <a:lnTo>
                    <a:pt x="66" y="735"/>
                  </a:lnTo>
                  <a:lnTo>
                    <a:pt x="60" y="710"/>
                  </a:lnTo>
                  <a:lnTo>
                    <a:pt x="48" y="698"/>
                  </a:lnTo>
                  <a:lnTo>
                    <a:pt x="36" y="680"/>
                  </a:lnTo>
                  <a:lnTo>
                    <a:pt x="24" y="662"/>
                  </a:lnTo>
                  <a:lnTo>
                    <a:pt x="42" y="650"/>
                  </a:lnTo>
                  <a:lnTo>
                    <a:pt x="54" y="638"/>
                  </a:lnTo>
                  <a:lnTo>
                    <a:pt x="42" y="626"/>
                  </a:lnTo>
                  <a:lnTo>
                    <a:pt x="30" y="620"/>
                  </a:lnTo>
                  <a:lnTo>
                    <a:pt x="24" y="596"/>
                  </a:lnTo>
                  <a:lnTo>
                    <a:pt x="24" y="578"/>
                  </a:lnTo>
                  <a:lnTo>
                    <a:pt x="36" y="554"/>
                  </a:lnTo>
                  <a:lnTo>
                    <a:pt x="60" y="500"/>
                  </a:lnTo>
                  <a:lnTo>
                    <a:pt x="48" y="410"/>
                  </a:lnTo>
                  <a:lnTo>
                    <a:pt x="66" y="380"/>
                  </a:lnTo>
                  <a:lnTo>
                    <a:pt x="78" y="349"/>
                  </a:lnTo>
                  <a:lnTo>
                    <a:pt x="60" y="307"/>
                  </a:lnTo>
                  <a:lnTo>
                    <a:pt x="72" y="265"/>
                  </a:lnTo>
                  <a:lnTo>
                    <a:pt x="90" y="229"/>
                  </a:lnTo>
                  <a:lnTo>
                    <a:pt x="150" y="163"/>
                  </a:lnTo>
                  <a:lnTo>
                    <a:pt x="150" y="97"/>
                  </a:lnTo>
                  <a:lnTo>
                    <a:pt x="174" y="49"/>
                  </a:lnTo>
                  <a:lnTo>
                    <a:pt x="217" y="6"/>
                  </a:lnTo>
                  <a:lnTo>
                    <a:pt x="259" y="0"/>
                  </a:lnTo>
                  <a:lnTo>
                    <a:pt x="301" y="6"/>
                  </a:lnTo>
                  <a:lnTo>
                    <a:pt x="337" y="37"/>
                  </a:lnTo>
                  <a:lnTo>
                    <a:pt x="355" y="67"/>
                  </a:lnTo>
                  <a:lnTo>
                    <a:pt x="349" y="85"/>
                  </a:lnTo>
                  <a:lnTo>
                    <a:pt x="337" y="109"/>
                  </a:lnTo>
                  <a:lnTo>
                    <a:pt x="325" y="127"/>
                  </a:lnTo>
                  <a:lnTo>
                    <a:pt x="319" y="157"/>
                  </a:lnTo>
                  <a:lnTo>
                    <a:pt x="325" y="169"/>
                  </a:lnTo>
                  <a:lnTo>
                    <a:pt x="313" y="277"/>
                  </a:lnTo>
                  <a:lnTo>
                    <a:pt x="301" y="386"/>
                  </a:lnTo>
                  <a:lnTo>
                    <a:pt x="295" y="422"/>
                  </a:lnTo>
                  <a:lnTo>
                    <a:pt x="301" y="452"/>
                  </a:lnTo>
                  <a:lnTo>
                    <a:pt x="325" y="476"/>
                  </a:lnTo>
                  <a:lnTo>
                    <a:pt x="337" y="506"/>
                  </a:lnTo>
                  <a:lnTo>
                    <a:pt x="337" y="596"/>
                  </a:lnTo>
                  <a:lnTo>
                    <a:pt x="319" y="632"/>
                  </a:lnTo>
                  <a:lnTo>
                    <a:pt x="295" y="632"/>
                  </a:lnTo>
                  <a:lnTo>
                    <a:pt x="283" y="638"/>
                  </a:lnTo>
                  <a:lnTo>
                    <a:pt x="271" y="668"/>
                  </a:lnTo>
                  <a:lnTo>
                    <a:pt x="283" y="686"/>
                  </a:lnTo>
                  <a:lnTo>
                    <a:pt x="295" y="692"/>
                  </a:lnTo>
                  <a:lnTo>
                    <a:pt x="301" y="710"/>
                  </a:lnTo>
                  <a:lnTo>
                    <a:pt x="307" y="729"/>
                  </a:lnTo>
                  <a:lnTo>
                    <a:pt x="313" y="741"/>
                  </a:lnTo>
                  <a:lnTo>
                    <a:pt x="283" y="765"/>
                  </a:lnTo>
                  <a:lnTo>
                    <a:pt x="253" y="801"/>
                  </a:lnTo>
                  <a:lnTo>
                    <a:pt x="217" y="831"/>
                  </a:lnTo>
                  <a:lnTo>
                    <a:pt x="198" y="825"/>
                  </a:lnTo>
                  <a:lnTo>
                    <a:pt x="192" y="813"/>
                  </a:lnTo>
                  <a:lnTo>
                    <a:pt x="192" y="789"/>
                  </a:lnTo>
                  <a:lnTo>
                    <a:pt x="204" y="765"/>
                  </a:lnTo>
                  <a:lnTo>
                    <a:pt x="223" y="741"/>
                  </a:lnTo>
                  <a:lnTo>
                    <a:pt x="223" y="723"/>
                  </a:lnTo>
                  <a:lnTo>
                    <a:pt x="204" y="698"/>
                  </a:lnTo>
                  <a:lnTo>
                    <a:pt x="186" y="692"/>
                  </a:lnTo>
                  <a:lnTo>
                    <a:pt x="162" y="704"/>
                  </a:lnTo>
                  <a:lnTo>
                    <a:pt x="150" y="723"/>
                  </a:lnTo>
                  <a:lnTo>
                    <a:pt x="144" y="747"/>
                  </a:lnTo>
                  <a:lnTo>
                    <a:pt x="144" y="753"/>
                  </a:lnTo>
                  <a:lnTo>
                    <a:pt x="156" y="759"/>
                  </a:lnTo>
                  <a:lnTo>
                    <a:pt x="156" y="783"/>
                  </a:lnTo>
                  <a:lnTo>
                    <a:pt x="126" y="819"/>
                  </a:lnTo>
                  <a:lnTo>
                    <a:pt x="114" y="855"/>
                  </a:lnTo>
                  <a:lnTo>
                    <a:pt x="138" y="897"/>
                  </a:lnTo>
                  <a:lnTo>
                    <a:pt x="156" y="915"/>
                  </a:lnTo>
                  <a:lnTo>
                    <a:pt x="174" y="927"/>
                  </a:lnTo>
                  <a:lnTo>
                    <a:pt x="210" y="933"/>
                  </a:lnTo>
                  <a:lnTo>
                    <a:pt x="229" y="933"/>
                  </a:lnTo>
                  <a:lnTo>
                    <a:pt x="247" y="945"/>
                  </a:lnTo>
                  <a:lnTo>
                    <a:pt x="259" y="963"/>
                  </a:lnTo>
                  <a:lnTo>
                    <a:pt x="271" y="987"/>
                  </a:lnTo>
                  <a:lnTo>
                    <a:pt x="295" y="1047"/>
                  </a:lnTo>
                  <a:lnTo>
                    <a:pt x="343" y="1162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2720" y="5062680"/>
              <a:ext cx="1013040" cy="401400"/>
            </a:xfrm>
            <a:custGeom>
              <a:avLst/>
              <a:gdLst/>
              <a:ahLst/>
              <a:rect l="l" t="t" r="r" b="b"/>
              <a:pathLst>
                <a:path w="638" h="253">
                  <a:moveTo>
                    <a:pt x="638" y="0"/>
                  </a:moveTo>
                  <a:lnTo>
                    <a:pt x="565" y="24"/>
                  </a:lnTo>
                  <a:lnTo>
                    <a:pt x="493" y="60"/>
                  </a:lnTo>
                  <a:lnTo>
                    <a:pt x="457" y="60"/>
                  </a:lnTo>
                  <a:lnTo>
                    <a:pt x="427" y="66"/>
                  </a:lnTo>
                  <a:lnTo>
                    <a:pt x="403" y="78"/>
                  </a:lnTo>
                  <a:lnTo>
                    <a:pt x="379" y="90"/>
                  </a:lnTo>
                  <a:lnTo>
                    <a:pt x="349" y="84"/>
                  </a:lnTo>
                  <a:lnTo>
                    <a:pt x="295" y="90"/>
                  </a:lnTo>
                  <a:lnTo>
                    <a:pt x="247" y="121"/>
                  </a:lnTo>
                  <a:lnTo>
                    <a:pt x="144" y="181"/>
                  </a:lnTo>
                  <a:lnTo>
                    <a:pt x="108" y="205"/>
                  </a:lnTo>
                  <a:lnTo>
                    <a:pt x="96" y="217"/>
                  </a:lnTo>
                  <a:lnTo>
                    <a:pt x="72" y="223"/>
                  </a:lnTo>
                  <a:lnTo>
                    <a:pt x="54" y="229"/>
                  </a:lnTo>
                  <a:lnTo>
                    <a:pt x="36" y="241"/>
                  </a:lnTo>
                  <a:lnTo>
                    <a:pt x="24" y="247"/>
                  </a:lnTo>
                  <a:lnTo>
                    <a:pt x="0" y="2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3440" y="3467160"/>
              <a:ext cx="335160" cy="554040"/>
            </a:xfrm>
            <a:custGeom>
              <a:avLst/>
              <a:gdLst/>
              <a:ahLst/>
              <a:rect l="l" t="t" r="r" b="b"/>
              <a:pathLst>
                <a:path w="211" h="349">
                  <a:moveTo>
                    <a:pt x="0" y="0"/>
                  </a:moveTo>
                  <a:lnTo>
                    <a:pt x="24" y="30"/>
                  </a:lnTo>
                  <a:lnTo>
                    <a:pt x="48" y="54"/>
                  </a:lnTo>
                  <a:lnTo>
                    <a:pt x="96" y="97"/>
                  </a:lnTo>
                  <a:lnTo>
                    <a:pt x="126" y="121"/>
                  </a:lnTo>
                  <a:lnTo>
                    <a:pt x="150" y="151"/>
                  </a:lnTo>
                  <a:lnTo>
                    <a:pt x="181" y="241"/>
                  </a:lnTo>
                  <a:lnTo>
                    <a:pt x="181" y="301"/>
                  </a:lnTo>
                  <a:lnTo>
                    <a:pt x="193" y="325"/>
                  </a:lnTo>
                  <a:lnTo>
                    <a:pt x="211" y="34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28960" y="214956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38680" y="21589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38680" y="21589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48040" y="21780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8040" y="217800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48040" y="21780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57760" y="21877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57760" y="21877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67120" y="22161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67120" y="22161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67120" y="22161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67120" y="2216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67120" y="22161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67120" y="222552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67120" y="22255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76840" y="2254320"/>
              <a:ext cx="18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6840" y="226368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76840" y="226368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6200" y="22827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86200" y="22924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6200" y="22924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6200" y="2292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86200" y="22924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6200" y="230184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6200" y="230184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05280" y="23209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05280" y="23115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05280" y="231156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14640" y="23209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4640" y="23209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33720" y="23400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33720" y="23400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33720" y="23400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3440" y="234000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43440" y="23400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62520" y="235908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71880" y="23684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71880" y="23684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90960" y="2378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00680" y="23781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00680" y="23781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19400" y="23972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7560" y="242568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86360" y="24447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24160" y="246384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2960" y="24829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0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2960" y="248292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6" y="0"/>
                  </a:moveTo>
                  <a:lnTo>
                    <a:pt x="0" y="13"/>
                  </a:lnTo>
                  <a:lnTo>
                    <a:pt x="12" y="19"/>
                  </a:lnTo>
                  <a:lnTo>
                    <a:pt x="18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52960" y="24829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lnTo>
                    <a:pt x="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91120" y="25034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91120" y="25034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91120" y="25034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19560" y="25131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29280" y="252252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29280" y="25225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59160" y="2532240"/>
              <a:ext cx="2880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6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78240" y="253224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78240" y="253224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97320" y="25416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97320" y="25416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97320" y="25416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35480" y="255096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54560" y="25606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4840" y="25606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6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73640" y="2560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3000" y="256068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83000" y="25606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11800" y="2570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59320" y="25797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78400" y="25797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78400" y="25797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7480" y="25797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6840" y="25797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06840" y="25797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35640" y="2589120"/>
              <a:ext cx="18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3440" y="25891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60800" y="3697200"/>
              <a:ext cx="668160" cy="181080"/>
            </a:xfrm>
            <a:custGeom>
              <a:avLst/>
              <a:gdLst/>
              <a:ahLst/>
              <a:rect l="l" t="t" r="r" b="b"/>
              <a:pathLst>
                <a:path w="421" h="114">
                  <a:moveTo>
                    <a:pt x="0" y="114"/>
                  </a:moveTo>
                  <a:lnTo>
                    <a:pt x="78" y="114"/>
                  </a:lnTo>
                  <a:lnTo>
                    <a:pt x="144" y="90"/>
                  </a:lnTo>
                  <a:lnTo>
                    <a:pt x="198" y="54"/>
                  </a:lnTo>
                  <a:lnTo>
                    <a:pt x="216" y="36"/>
                  </a:lnTo>
                  <a:lnTo>
                    <a:pt x="240" y="30"/>
                  </a:lnTo>
                  <a:lnTo>
                    <a:pt x="300" y="42"/>
                  </a:lnTo>
                  <a:lnTo>
                    <a:pt x="361" y="36"/>
                  </a:lnTo>
                  <a:lnTo>
                    <a:pt x="397" y="18"/>
                  </a:lnTo>
                  <a:lnTo>
                    <a:pt x="42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7560" y="3821040"/>
              <a:ext cx="801720" cy="247680"/>
            </a:xfrm>
            <a:custGeom>
              <a:avLst/>
              <a:gdLst/>
              <a:ahLst/>
              <a:rect l="l" t="t" r="r" b="b"/>
              <a:pathLst>
                <a:path w="505" h="156">
                  <a:moveTo>
                    <a:pt x="0" y="0"/>
                  </a:moveTo>
                  <a:lnTo>
                    <a:pt x="30" y="48"/>
                  </a:lnTo>
                  <a:lnTo>
                    <a:pt x="48" y="66"/>
                  </a:lnTo>
                  <a:lnTo>
                    <a:pt x="72" y="72"/>
                  </a:lnTo>
                  <a:lnTo>
                    <a:pt x="102" y="72"/>
                  </a:lnTo>
                  <a:lnTo>
                    <a:pt x="126" y="84"/>
                  </a:lnTo>
                  <a:lnTo>
                    <a:pt x="144" y="102"/>
                  </a:lnTo>
                  <a:lnTo>
                    <a:pt x="175" y="114"/>
                  </a:lnTo>
                  <a:lnTo>
                    <a:pt x="193" y="114"/>
                  </a:lnTo>
                  <a:lnTo>
                    <a:pt x="253" y="126"/>
                  </a:lnTo>
                  <a:lnTo>
                    <a:pt x="271" y="126"/>
                  </a:lnTo>
                  <a:lnTo>
                    <a:pt x="289" y="114"/>
                  </a:lnTo>
                  <a:lnTo>
                    <a:pt x="307" y="102"/>
                  </a:lnTo>
                  <a:lnTo>
                    <a:pt x="325" y="96"/>
                  </a:lnTo>
                  <a:lnTo>
                    <a:pt x="361" y="114"/>
                  </a:lnTo>
                  <a:lnTo>
                    <a:pt x="391" y="138"/>
                  </a:lnTo>
                  <a:lnTo>
                    <a:pt x="451" y="144"/>
                  </a:lnTo>
                  <a:lnTo>
                    <a:pt x="475" y="144"/>
                  </a:lnTo>
                  <a:lnTo>
                    <a:pt x="505" y="15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43720" y="3305160"/>
              <a:ext cx="104760" cy="344520"/>
            </a:xfrm>
            <a:custGeom>
              <a:avLst/>
              <a:gdLst/>
              <a:ahLst/>
              <a:rect l="l" t="t" r="r" b="b"/>
              <a:pathLst>
                <a:path w="66" h="217">
                  <a:moveTo>
                    <a:pt x="0" y="0"/>
                  </a:moveTo>
                  <a:lnTo>
                    <a:pt x="24" y="24"/>
                  </a:lnTo>
                  <a:lnTo>
                    <a:pt x="66" y="30"/>
                  </a:lnTo>
                  <a:lnTo>
                    <a:pt x="66" y="54"/>
                  </a:lnTo>
                  <a:lnTo>
                    <a:pt x="60" y="72"/>
                  </a:lnTo>
                  <a:lnTo>
                    <a:pt x="48" y="90"/>
                  </a:lnTo>
                  <a:lnTo>
                    <a:pt x="60" y="114"/>
                  </a:lnTo>
                  <a:lnTo>
                    <a:pt x="42" y="132"/>
                  </a:lnTo>
                  <a:lnTo>
                    <a:pt x="6" y="2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8760" y="3505320"/>
              <a:ext cx="354240" cy="49680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0" y="0"/>
                  </a:moveTo>
                  <a:lnTo>
                    <a:pt x="48" y="79"/>
                  </a:lnTo>
                  <a:lnTo>
                    <a:pt x="48" y="103"/>
                  </a:lnTo>
                  <a:lnTo>
                    <a:pt x="54" y="127"/>
                  </a:lnTo>
                  <a:lnTo>
                    <a:pt x="78" y="145"/>
                  </a:lnTo>
                  <a:lnTo>
                    <a:pt x="102" y="163"/>
                  </a:lnTo>
                  <a:lnTo>
                    <a:pt x="144" y="199"/>
                  </a:lnTo>
                  <a:lnTo>
                    <a:pt x="163" y="259"/>
                  </a:lnTo>
                  <a:lnTo>
                    <a:pt x="223" y="3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94280" y="1289160"/>
              <a:ext cx="123840" cy="16344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24" y="6"/>
                  </a:moveTo>
                  <a:lnTo>
                    <a:pt x="6" y="18"/>
                  </a:lnTo>
                  <a:lnTo>
                    <a:pt x="0" y="36"/>
                  </a:lnTo>
                  <a:lnTo>
                    <a:pt x="6" y="54"/>
                  </a:lnTo>
                  <a:lnTo>
                    <a:pt x="12" y="79"/>
                  </a:lnTo>
                  <a:lnTo>
                    <a:pt x="48" y="103"/>
                  </a:lnTo>
                  <a:lnTo>
                    <a:pt x="66" y="91"/>
                  </a:lnTo>
                  <a:lnTo>
                    <a:pt x="78" y="73"/>
                  </a:lnTo>
                  <a:lnTo>
                    <a:pt x="78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32280" y="1805040"/>
              <a:ext cx="333360" cy="487440"/>
            </a:xfrm>
            <a:custGeom>
              <a:avLst/>
              <a:gdLst/>
              <a:ahLst/>
              <a:rect l="l" t="t" r="r" b="b"/>
              <a:pathLst>
                <a:path w="210" h="307">
                  <a:moveTo>
                    <a:pt x="42" y="48"/>
                  </a:moveTo>
                  <a:lnTo>
                    <a:pt x="24" y="60"/>
                  </a:lnTo>
                  <a:lnTo>
                    <a:pt x="18" y="85"/>
                  </a:lnTo>
                  <a:lnTo>
                    <a:pt x="6" y="103"/>
                  </a:lnTo>
                  <a:lnTo>
                    <a:pt x="0" y="127"/>
                  </a:lnTo>
                  <a:lnTo>
                    <a:pt x="12" y="139"/>
                  </a:lnTo>
                  <a:lnTo>
                    <a:pt x="30" y="157"/>
                  </a:lnTo>
                  <a:lnTo>
                    <a:pt x="30" y="187"/>
                  </a:lnTo>
                  <a:lnTo>
                    <a:pt x="30" y="205"/>
                  </a:lnTo>
                  <a:lnTo>
                    <a:pt x="42" y="211"/>
                  </a:lnTo>
                  <a:lnTo>
                    <a:pt x="78" y="235"/>
                  </a:lnTo>
                  <a:lnTo>
                    <a:pt x="96" y="265"/>
                  </a:lnTo>
                  <a:lnTo>
                    <a:pt x="114" y="295"/>
                  </a:lnTo>
                  <a:lnTo>
                    <a:pt x="144" y="307"/>
                  </a:lnTo>
                  <a:lnTo>
                    <a:pt x="162" y="295"/>
                  </a:lnTo>
                  <a:lnTo>
                    <a:pt x="174" y="277"/>
                  </a:lnTo>
                  <a:lnTo>
                    <a:pt x="198" y="253"/>
                  </a:lnTo>
                  <a:lnTo>
                    <a:pt x="210" y="229"/>
                  </a:lnTo>
                  <a:lnTo>
                    <a:pt x="198" y="175"/>
                  </a:lnTo>
                  <a:lnTo>
                    <a:pt x="186" y="127"/>
                  </a:lnTo>
                  <a:lnTo>
                    <a:pt x="198" y="85"/>
                  </a:lnTo>
                  <a:lnTo>
                    <a:pt x="192" y="24"/>
                  </a:lnTo>
                  <a:lnTo>
                    <a:pt x="174" y="6"/>
                  </a:lnTo>
                  <a:lnTo>
                    <a:pt x="156" y="0"/>
                  </a:lnTo>
                  <a:lnTo>
                    <a:pt x="132" y="6"/>
                  </a:lnTo>
                  <a:lnTo>
                    <a:pt x="114" y="18"/>
                  </a:lnTo>
                  <a:lnTo>
                    <a:pt x="78" y="18"/>
                  </a:lnTo>
                  <a:lnTo>
                    <a:pt x="72" y="36"/>
                  </a:lnTo>
                  <a:lnTo>
                    <a:pt x="66" y="54"/>
                  </a:lnTo>
                  <a:lnTo>
                    <a:pt x="54" y="54"/>
                  </a:lnTo>
                  <a:lnTo>
                    <a:pt x="42" y="48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25840" y="506268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35200" y="50817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35200" y="50817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44920" y="51004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54280" y="513864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4000" y="5176800"/>
              <a:ext cx="1872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64000" y="51768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64000" y="5176800"/>
              <a:ext cx="1872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73360" y="52052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82720" y="5243400"/>
              <a:ext cx="190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82720" y="5283360"/>
              <a:ext cx="2880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92440" y="53211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01800" y="535932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01800" y="5359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01800" y="535932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01800" y="539748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11520" y="54356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20880" y="54738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30600" y="551196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30600" y="554976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39960" y="5587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0" y="6"/>
                  </a:lnTo>
                  <a:lnTo>
                    <a:pt x="6" y="24"/>
                  </a:lnTo>
                  <a:lnTo>
                    <a:pt x="2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9680" y="5635800"/>
              <a:ext cx="3780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8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59040" y="567360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18" y="0"/>
                  </a:moveTo>
                  <a:lnTo>
                    <a:pt x="0" y="6"/>
                  </a:lnTo>
                  <a:lnTo>
                    <a:pt x="12" y="12"/>
                  </a:lnTo>
                  <a:lnTo>
                    <a:pt x="24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87480" y="570240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0"/>
                  </a:moveTo>
                  <a:lnTo>
                    <a:pt x="0" y="6"/>
                  </a:lnTo>
                  <a:lnTo>
                    <a:pt x="0" y="18"/>
                  </a:lnTo>
                  <a:lnTo>
                    <a:pt x="12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97200" y="57405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06560" y="577836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2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25640" y="581832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44720" y="584676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54440" y="58849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73520" y="5913360"/>
              <a:ext cx="37800" cy="288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0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01960" y="59515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21040" y="597996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9480" y="599904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68560" y="60278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7360" y="605628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6080" y="606600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16080" y="606600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25800" y="6075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35160" y="60847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35160" y="60847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54240" y="609444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6" y="0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18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94200" y="61228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03560" y="612288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03560" y="61228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2640" y="6141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60800" y="615168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70160" y="61610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70160" y="61610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98960" y="61707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98960" y="61707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98960" y="61707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27400" y="618012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65560" y="61992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65560" y="61992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6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65560" y="61992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13080" y="62085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32160" y="62085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32160" y="62085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51240" y="62182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60600" y="62182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60600" y="62182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89400" y="621828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27560" y="62276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36920" y="6227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36920" y="622764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65360" y="62276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03520" y="6237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13240" y="6237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13240" y="62373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41680" y="62373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41680" y="62373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41680" y="62373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79840" y="62373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27360" y="62373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66960" y="62373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5120" y="6227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14840" y="62276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14840" y="622764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43280" y="62276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1440" y="621828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0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19600" y="62182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8960" y="62182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28960" y="62182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57760" y="620856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0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95560" y="6208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4360" y="6199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33720" y="6199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33720" y="619920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62520" y="61898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81600" y="6189840"/>
              <a:ext cx="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81600" y="6189840"/>
              <a:ext cx="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00680" y="618012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0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61707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0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76640" y="616104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0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14800" y="615168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0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52960" y="6141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1120" y="61326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29280" y="612288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6"/>
                  </a:moveTo>
                  <a:lnTo>
                    <a:pt x="6" y="18"/>
                  </a:lnTo>
                  <a:lnTo>
                    <a:pt x="13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59160" y="61135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97320" y="61038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07040" y="610380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07040" y="61038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5480" y="609444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73640" y="6075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83000" y="60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83000" y="60753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11800" y="6066000"/>
              <a:ext cx="3780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6"/>
                  </a:moveTo>
                  <a:lnTo>
                    <a:pt x="6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9600" y="605628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87760" y="604692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41680" y="23875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51400" y="23875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41680" y="23875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6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60760" y="23875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560760" y="1203480"/>
            <a:ext cx="2970360" cy="1203120"/>
            <a:chOff x="3560760" y="1203480"/>
            <a:chExt cx="2970360" cy="1203120"/>
          </a:xfrm>
        </p:grpSpPr>
        <p:sp>
          <p:nvSpPr>
            <p:cNvPr id="395" name=""/>
            <p:cNvSpPr/>
            <p:nvPr/>
          </p:nvSpPr>
          <p:spPr>
            <a:xfrm>
              <a:off x="3560760" y="23875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60760" y="23875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60760" y="23875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0120" y="23875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70120" y="23875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9200" y="23875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89200" y="238752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89200" y="23875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98920" y="23875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12" y="12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98920" y="23875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98920" y="23875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98920" y="23875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37080" y="236844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6" y="1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37080" y="23684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37080" y="23684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6440" y="23684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6440" y="23684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66960" y="23493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66960" y="234000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66960" y="23493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95760" y="232092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05120" y="231156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6" y="1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05120" y="23209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24200" y="23018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24200" y="229248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24200" y="23018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43280" y="2273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12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43280" y="227340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2" y="6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43280" y="22734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62360" y="22543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62360" y="2235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62360" y="22543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72080" y="2235240"/>
              <a:ext cx="1872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72080" y="2235240"/>
              <a:ext cx="1872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81440" y="220680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2"/>
                  </a:moveTo>
                  <a:lnTo>
                    <a:pt x="12" y="18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9880" y="21877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09880" y="217800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12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09880" y="21877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28960" y="214956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12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38680" y="21398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12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38680" y="21495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48040" y="212076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12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57760" y="2111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12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57760" y="212076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7120" y="20829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12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76840" y="2082960"/>
              <a:ext cx="1872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6840" y="2082960"/>
              <a:ext cx="1872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86200" y="20638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86200" y="2044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86200" y="20638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05280" y="20160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12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14640" y="20160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14640" y="20160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24360" y="19782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43440" y="19494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12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62520" y="19288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62520" y="190980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2"/>
                  </a:moveTo>
                  <a:lnTo>
                    <a:pt x="12" y="19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62520" y="19288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lnTo>
                    <a:pt x="1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71880" y="1862280"/>
              <a:ext cx="2880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81600" y="1862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12" y="12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81600" y="1862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90960" y="18334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10040" y="179532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9400" y="17575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38480" y="172872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200" y="17287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200" y="17287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57560" y="1700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12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57560" y="1690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12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57560" y="17002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7280" y="16714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7280" y="16527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67280" y="16714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86360" y="16336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12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86360" y="1623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12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86360" y="16336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95720" y="15858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14800" y="154764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2"/>
                  </a:moveTo>
                  <a:lnTo>
                    <a:pt x="12" y="18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24160" y="15098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43240" y="148104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2"/>
                  </a:moveTo>
                  <a:lnTo>
                    <a:pt x="12" y="18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52960" y="14428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62320" y="142416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2" y="6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72040" y="140508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2"/>
                  </a:moveTo>
                  <a:lnTo>
                    <a:pt x="12" y="18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72040" y="14241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91120" y="13860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12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00480" y="13748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6" y="13"/>
                  </a:lnTo>
                  <a:lnTo>
                    <a:pt x="12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91120" y="13748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7"/>
                  </a:moveTo>
                  <a:lnTo>
                    <a:pt x="6" y="0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10200" y="13651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6" y="19"/>
                  </a:lnTo>
                  <a:lnTo>
                    <a:pt x="6" y="13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0200" y="13748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19560" y="134604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6" y="18"/>
                  </a:ln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38640" y="134604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38640" y="134604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0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59160" y="132732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6" y="1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59160" y="131760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59160" y="132732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87960" y="1308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7320" y="129852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97320" y="13082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16400" y="12891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16400" y="128916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16400" y="12891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54560" y="12794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54560" y="127008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54560" y="12794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73640" y="12700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73640" y="12700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92720" y="12603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92720" y="12510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92720" y="12603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30880" y="12412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12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49600" y="12412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49600" y="12412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68680" y="123192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78400" y="12319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78400" y="12319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06840" y="12319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06840" y="122220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0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06840" y="12319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25920" y="122220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25920" y="122220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45000" y="1222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54360" y="1222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54360" y="122220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83160" y="121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92520" y="121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92520" y="121284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21320" y="121284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21320" y="12128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21320" y="121284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59480" y="1203480"/>
              <a:ext cx="18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97280" y="12034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35440" y="121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45160" y="121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45160" y="121284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73600" y="121284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73600" y="12128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73600" y="121284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11760" y="121284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11760" y="121284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0"/>
                  </a:moveTo>
                  <a:lnTo>
                    <a:pt x="0" y="12"/>
                  </a:lnTo>
                  <a:lnTo>
                    <a:pt x="13" y="1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11760" y="121284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51360" y="122220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70440" y="12319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70440" y="12319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79800" y="123192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89520" y="1241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89520" y="1241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17960" y="124128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27680" y="12510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27680" y="12510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46760" y="126036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6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65840" y="12603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65840" y="12603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84920" y="127008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94280" y="12794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94280" y="12794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22720" y="12891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12040" y="22352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73880" y="22352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45080" y="222552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8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35720" y="22255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45080" y="22255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97560" y="22255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69120" y="22161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59400" y="2216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69120" y="22161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30960" y="220680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02520" y="2197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92800" y="218772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18"/>
                  </a:moveTo>
                  <a:lnTo>
                    <a:pt x="12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02520" y="21970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2800" y="21877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92800" y="21877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73720" y="216864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64360" y="21686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73720" y="21686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64360" y="215892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64360" y="21686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35560" y="213984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18"/>
                  </a:moveTo>
                  <a:lnTo>
                    <a:pt x="12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35560" y="21398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35560" y="21398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16480" y="21207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07120" y="21207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16480" y="21207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07120" y="211140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07120" y="21207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680" y="21016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68960" y="2101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178680" y="21016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0800" y="2101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93000" y="2101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83280" y="2101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93000" y="21016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45120" y="2101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45120" y="21016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45120" y="21016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06960" y="2101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67360" y="210168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12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29200" y="21114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91040" y="211140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72320" y="21207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1207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611600" y="2120760"/>
            <a:ext cx="1261080" cy="1117800"/>
            <a:chOff x="4611600" y="2120760"/>
            <a:chExt cx="1261080" cy="1117800"/>
          </a:xfrm>
        </p:grpSpPr>
        <p:sp>
          <p:nvSpPr>
            <p:cNvPr id="596" name=""/>
            <p:cNvSpPr/>
            <p:nvPr/>
          </p:nvSpPr>
          <p:spPr>
            <a:xfrm>
              <a:off x="5872320" y="21207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834160" y="21207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15080" y="212076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834160" y="21207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96000" y="21304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76920" y="21304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96000" y="21304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38760" y="21398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0320" y="213984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00600" y="2149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0320" y="21495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62440" y="21495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34000" y="21589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24640" y="21589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34000" y="21589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86480" y="21686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57680" y="216864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19880" y="2178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91080" y="2187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81720" y="2187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91080" y="21877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43560" y="2187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43560" y="21877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43560" y="21877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5120" y="2187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03960" y="21877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5120" y="21877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03960" y="21877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03960" y="21877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65800" y="2187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37000" y="2187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27640" y="2187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37000" y="21877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27640" y="21877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327640" y="21877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99200" y="2187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89480" y="2187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99200" y="21877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70400" y="218772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2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2" y="18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70400" y="21877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51320" y="22068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51320" y="220680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51320" y="22068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51320" y="222552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51320" y="22161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51320" y="222552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51320" y="222552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51320" y="22352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51320" y="22352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41960" y="22446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41960" y="22446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41960" y="22446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41960" y="22543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41960" y="22543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1960" y="22543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41960" y="22543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22880" y="22734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3520" y="227340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22880" y="22734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13520" y="22827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13520" y="22827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94440" y="229248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2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84720" y="23018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94440" y="23018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5360" y="230184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84720" y="23018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46560" y="232092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2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46560" y="232092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2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46560" y="23209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27480" y="23400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18120" y="234000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27480" y="23400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79960" y="23493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41800" y="236844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41800" y="2378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41800" y="2378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13360" y="238752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984920" y="240660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75200" y="24066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84920" y="24066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37040" y="24163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08600" y="24354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70440" y="24447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32280" y="246384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9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2040" y="24732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3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9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02040" y="248292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2040" y="248292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64240" y="249408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26080" y="251316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2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07000" y="252252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97280" y="253224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07000" y="2532240"/>
              <a:ext cx="936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59480" y="25416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2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59480" y="25509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59480" y="25509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0680" y="256068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30680" y="25700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30680" y="25700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11600" y="25797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11600" y="25891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11600" y="25891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11600" y="25988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11600" y="25891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11600" y="259884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11600" y="25988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11600" y="26082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11600" y="26082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21320" y="26370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21320" y="263700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21320" y="26370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30680" y="2646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30680" y="2646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40400" y="26654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40400" y="26748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40400" y="26748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49760" y="26845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49760" y="26845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68840" y="27036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68840" y="269388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68840" y="269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78200" y="27036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78200" y="27036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87920" y="271296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97280" y="27226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97280" y="27226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07000" y="272268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07000" y="27226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26080" y="27417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35440" y="27511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35440" y="27511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54520" y="276084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64240" y="276084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64240" y="2760840"/>
              <a:ext cx="936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73600" y="27702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73600" y="27702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92680" y="277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02040" y="277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02040" y="27795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42000" y="27892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51360" y="27892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51360" y="27892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0440" y="27892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79800" y="27892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79800" y="278928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98880" y="27986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08600" y="279864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08600" y="27986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37040" y="28083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37040" y="280836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37040" y="28083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75200" y="28177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84920" y="2817720"/>
              <a:ext cx="1872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975200" y="28177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6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22720" y="282744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8368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83680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60880" y="283680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60880" y="28368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60880" y="283680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99040" y="28465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37200" y="28465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75360" y="2855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13520" y="2855880"/>
              <a:ext cx="18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51320" y="285588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51320" y="286560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51320" y="286560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89480" y="286560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89480" y="286560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89480" y="286560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18280" y="28843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6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7000" y="28843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37000" y="28843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56080" y="28940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94240" y="2913120"/>
              <a:ext cx="30240" cy="1908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6" y="0"/>
                  </a:moveTo>
                  <a:lnTo>
                    <a:pt x="0" y="12"/>
                  </a:lnTo>
                  <a:lnTo>
                    <a:pt x="13" y="12"/>
                  </a:lnTo>
                  <a:lnTo>
                    <a:pt x="1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24480" y="29224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62640" y="2941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72000" y="2941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72000" y="29415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00800" y="295128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48320" y="296064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86480" y="2970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95840" y="2970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95840" y="29703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24640" y="2979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34000" y="2979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634000" y="29797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62440" y="2979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672160" y="29894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72160" y="3027240"/>
              <a:ext cx="190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72160" y="3067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72160" y="31050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81520" y="31431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81520" y="31622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1520" y="31622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81520" y="318132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681520" y="319104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681520" y="31910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72160" y="321948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72160" y="322884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672160" y="32288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4000680" y="3238560"/>
            <a:ext cx="1728720" cy="1957320"/>
            <a:chOff x="4000680" y="3238560"/>
            <a:chExt cx="1728720" cy="1957320"/>
          </a:xfrm>
        </p:grpSpPr>
        <p:sp>
          <p:nvSpPr>
            <p:cNvPr id="797" name=""/>
            <p:cNvSpPr/>
            <p:nvPr/>
          </p:nvSpPr>
          <p:spPr>
            <a:xfrm>
              <a:off x="5672160" y="323856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72160" y="323856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62440" y="324792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662440" y="32576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62440" y="32576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53080" y="32860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53080" y="328608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53080" y="32860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62440" y="3678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662440" y="368784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62440" y="36878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72160" y="3716280"/>
              <a:ext cx="28440" cy="9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2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681520" y="371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81520" y="37162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691240" y="374508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91240" y="375444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91240" y="37544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00600" y="37828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00600" y="379260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700600" y="379260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10320" y="382104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10320" y="383076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710320" y="383076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10320" y="385920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710320" y="3859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710320" y="385920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10320" y="38973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10320" y="39164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10320" y="39164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700600" y="393552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00600" y="39355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00600" y="393552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00600" y="395460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00600" y="395460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691240" y="39639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691240" y="39830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91240" y="39830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681520" y="40021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681520" y="400212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681520" y="40021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662440" y="40305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6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653080" y="40687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53080" y="407844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53080" y="40784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634000" y="4106880"/>
              <a:ext cx="2844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12"/>
                  </a:moveTo>
                  <a:lnTo>
                    <a:pt x="6" y="0"/>
                  </a:lnTo>
                  <a:lnTo>
                    <a:pt x="0" y="18"/>
                  </a:lnTo>
                  <a:lnTo>
                    <a:pt x="12" y="25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14920" y="414648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6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5560" y="41846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5560" y="418464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605560" y="41846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86480" y="42228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86480" y="423216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86480" y="423216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67400" y="42512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6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48320" y="42894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6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538960" y="432756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538960" y="433692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8960" y="433692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529240" y="435600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29240" y="438480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529240" y="43750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19880" y="440388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519880" y="441324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519880" y="44132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519880" y="44416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19880" y="445140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19880" y="445140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529240" y="44798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29240" y="447984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529240" y="44798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29240" y="448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29240" y="44895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38960" y="451800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38960" y="452772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38960" y="4527720"/>
              <a:ext cx="1872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57680" y="4556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67400" y="45846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86480" y="462276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95840" y="463248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95840" y="46324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05560" y="46609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605560" y="46609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605560" y="46609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605560" y="467028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605560" y="46702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05560" y="468936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2" y="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18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14920" y="47102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614920" y="47102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614920" y="472932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614920" y="47480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14920" y="47480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05560" y="47671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05560" y="47768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05560" y="47768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595840" y="47959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95840" y="4805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595840" y="48052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76760" y="483408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6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576760" y="48531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76760" y="48531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67400" y="48816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57680" y="488160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67400" y="48816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38960" y="49100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6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38960" y="492912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38960" y="492912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519880" y="49482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10160" y="49766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00800" y="498636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510160" y="4986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91080" y="5014800"/>
              <a:ext cx="28800" cy="9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91080" y="501480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91080" y="50148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481720" y="504360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81720" y="50720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1720" y="50626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472000" y="509112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72000" y="51004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472000" y="510048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72000" y="512928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72000" y="5138640"/>
              <a:ext cx="28800" cy="9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2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8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72000" y="513864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81720" y="5148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481720" y="5148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491080" y="51674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491080" y="51674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491080" y="51674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491080" y="516744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91080" y="51674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000680" y="39924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38480" y="39830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48200" y="39830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048200" y="39830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076640" y="39639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086360" y="39639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86360" y="39639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05440" y="39448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24160" y="3944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124160" y="3944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43240" y="392580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72040" y="391644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10200" y="38973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38640" y="38782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7" y="18"/>
                  </a:lnTo>
                  <a:lnTo>
                    <a:pt x="19" y="1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78240" y="38685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78240" y="385920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78240" y="38685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16400" y="384984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25760" y="384012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6" y="1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25760" y="384984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4840" y="3840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54560" y="38401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54560" y="384012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383000" y="38307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392720" y="38307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392720" y="38307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21160" y="383076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30880" y="38210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12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430880" y="383076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49600" y="38210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49600" y="38210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449600" y="381168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12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459320" y="38116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459320" y="38116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59320" y="38019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459320" y="38116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459320" y="380196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459320" y="380196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59320" y="380196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59320" y="380196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59320" y="377352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59320" y="376380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459320" y="377352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459320" y="37353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59320" y="372600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59320" y="3735360"/>
              <a:ext cx="19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459320" y="37260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459320" y="37260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468680" y="3697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12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478400" y="36878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468680" y="36878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6" y="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487760" y="36878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487760" y="36878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487760" y="36878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487760" y="36878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487760" y="36878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87760" y="36878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06840" y="3678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516560" y="36687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16560" y="3678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525920" y="36687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25920" y="36687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45000" y="36590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6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83160" y="3649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21320" y="36399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621320" y="36399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621320" y="363996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659480" y="3630600"/>
              <a:ext cx="1440" cy="284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6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59480" y="3630600"/>
              <a:ext cx="18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659480" y="3630600"/>
              <a:ext cx="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97280" y="3630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07000" y="362124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8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4707000" y="3630600"/>
            <a:ext cx="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735440" y="3621240"/>
            <a:ext cx="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735440" y="3621240"/>
            <a:ext cx="1908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735440" y="3621240"/>
            <a:ext cx="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898880" y="2282760"/>
            <a:ext cx="133560" cy="2378160"/>
          </a:xfrm>
          <a:custGeom>
            <a:avLst/>
            <a:gdLst/>
            <a:ahLst/>
            <a:rect l="l" t="t" r="r" b="b"/>
            <a:pathLst>
              <a:path w="84" h="1498">
                <a:moveTo>
                  <a:pt x="84" y="0"/>
                </a:moveTo>
                <a:lnTo>
                  <a:pt x="66" y="12"/>
                </a:lnTo>
                <a:lnTo>
                  <a:pt x="54" y="24"/>
                </a:lnTo>
                <a:lnTo>
                  <a:pt x="60" y="48"/>
                </a:lnTo>
                <a:lnTo>
                  <a:pt x="42" y="60"/>
                </a:lnTo>
                <a:lnTo>
                  <a:pt x="48" y="84"/>
                </a:lnTo>
                <a:lnTo>
                  <a:pt x="60" y="96"/>
                </a:lnTo>
                <a:lnTo>
                  <a:pt x="48" y="139"/>
                </a:lnTo>
                <a:lnTo>
                  <a:pt x="60" y="175"/>
                </a:lnTo>
                <a:lnTo>
                  <a:pt x="72" y="211"/>
                </a:lnTo>
                <a:lnTo>
                  <a:pt x="60" y="289"/>
                </a:lnTo>
                <a:lnTo>
                  <a:pt x="54" y="331"/>
                </a:lnTo>
                <a:lnTo>
                  <a:pt x="78" y="385"/>
                </a:lnTo>
                <a:lnTo>
                  <a:pt x="72" y="421"/>
                </a:lnTo>
                <a:lnTo>
                  <a:pt x="54" y="451"/>
                </a:lnTo>
                <a:lnTo>
                  <a:pt x="60" y="566"/>
                </a:lnTo>
                <a:lnTo>
                  <a:pt x="48" y="632"/>
                </a:lnTo>
                <a:lnTo>
                  <a:pt x="54" y="680"/>
                </a:lnTo>
                <a:lnTo>
                  <a:pt x="54" y="722"/>
                </a:lnTo>
                <a:lnTo>
                  <a:pt x="66" y="825"/>
                </a:lnTo>
                <a:lnTo>
                  <a:pt x="60" y="903"/>
                </a:lnTo>
                <a:lnTo>
                  <a:pt x="42" y="975"/>
                </a:lnTo>
                <a:lnTo>
                  <a:pt x="12" y="1047"/>
                </a:lnTo>
                <a:lnTo>
                  <a:pt x="6" y="1113"/>
                </a:lnTo>
                <a:lnTo>
                  <a:pt x="18" y="1180"/>
                </a:lnTo>
                <a:lnTo>
                  <a:pt x="30" y="1240"/>
                </a:lnTo>
                <a:lnTo>
                  <a:pt x="12" y="1282"/>
                </a:lnTo>
                <a:lnTo>
                  <a:pt x="0" y="1324"/>
                </a:lnTo>
                <a:lnTo>
                  <a:pt x="12" y="1372"/>
                </a:lnTo>
                <a:lnTo>
                  <a:pt x="6" y="1396"/>
                </a:lnTo>
                <a:lnTo>
                  <a:pt x="24" y="1426"/>
                </a:lnTo>
                <a:lnTo>
                  <a:pt x="24" y="149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246560" y="148896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LI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782880" y="297036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M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261240" y="5119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D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692960" y="5197320"/>
            <a:ext cx="7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761720" y="519732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799160" y="5197320"/>
            <a:ext cx="6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840560" y="5197320"/>
            <a:ext cx="6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30040" y="529272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80800" y="529272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808880" y="5292720"/>
            <a:ext cx="6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077440" y="380196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047920" y="3916440"/>
            <a:ext cx="49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beyo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941720" y="4040280"/>
            <a:ext cx="72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Jord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032440" y="22827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675400" y="15368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541480" y="165276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522040" y="176688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917880" y="4622760"/>
            <a:ext cx="6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rusale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487760" y="4608360"/>
            <a:ext cx="4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45600" y="473724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hph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06840" y="4665600"/>
            <a:ext cx="4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32440" y="22827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980600" y="196848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033160" y="196848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059440" y="1968480"/>
            <a:ext cx="6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001480" y="206388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046120" y="2063880"/>
            <a:ext cx="32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911480" y="21607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972320" y="2160720"/>
            <a:ext cx="6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027760" y="2160720"/>
            <a:ext cx="31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46840" y="2160720"/>
            <a:ext cx="31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75640" y="2160720"/>
            <a:ext cx="31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099760" y="216072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39360" y="216072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Palatino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294080" y="1776240"/>
            <a:ext cx="69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ernau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23000" y="1800360"/>
            <a:ext cx="4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18640" y="2298600"/>
            <a:ext cx="83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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206960" y="23875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00280" y="23875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457160" y="23875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231520" y="250200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APOL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908160" y="620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84480" y="62064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on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265280" y="62064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781080" y="10796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849120" y="10796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re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071960" y="1065240"/>
            <a:ext cx="4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55720" y="59720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462280" y="59720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520960" y="59720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98720" y="59720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665320" y="5972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809680" y="5972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62040" y="5972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138360" y="5972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51120" y="5972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28880" y="5972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62640" y="6240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559120" y="62406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65320" y="624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790600" y="6240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15880" y="6240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994000" y="6240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119280" y="6240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177960" y="6240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22320" y="6240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370200" y="6240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824440" y="6151680"/>
            <a:ext cx="620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824440" y="6113520"/>
            <a:ext cx="1800" cy="9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6445080" y="611352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6140520" y="611352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006960" y="6151680"/>
            <a:ext cx="1800" cy="5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188040" y="6151680"/>
            <a:ext cx="1800" cy="5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369120" y="6151680"/>
            <a:ext cx="1440" cy="5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98920" y="35622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676320" y="35622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05120" y="3562200"/>
            <a:ext cx="51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thea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849480" y="3676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78280" y="3662280"/>
            <a:ext cx="4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145120" y="1141560"/>
            <a:ext cx="4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191920" y="11556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es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085360" y="83664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. Herm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239080" y="922320"/>
            <a:ext cx="83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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878640" y="4470480"/>
            <a:ext cx="56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mau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284720" y="4551480"/>
            <a:ext cx="4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96880" y="1916280"/>
            <a:ext cx="68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orns of Hatt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0080" y="2001960"/>
            <a:ext cx="83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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756680" y="2001960"/>
            <a:ext cx="83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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515840" y="440388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ri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48040" y="4484520"/>
            <a:ext cx="4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97720" y="429732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hraim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00280" y="43369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29080" y="4322880"/>
            <a:ext cx="4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535640" y="4684680"/>
            <a:ext cx="4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716360" y="4795920"/>
            <a:ext cx="57240" cy="8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534560" y="4775040"/>
            <a:ext cx="46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h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45000" y="461016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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640400" y="4600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776480" y="46004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794480" y="4600440"/>
            <a:ext cx="39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f Ol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344680" y="0"/>
            <a:ext cx="4214880" cy="674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719440" y="195120"/>
            <a:ext cx="81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Palatino"/>
              </a:rPr>
              <a:t>PALEST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36000" y="357120"/>
            <a:ext cx="587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Palatino"/>
              </a:rPr>
              <a:t>DU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710800" y="511200"/>
            <a:ext cx="660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Palatino"/>
              </a:rPr>
              <a:t>THE LIF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729520" y="673200"/>
            <a:ext cx="770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Palatino"/>
              </a:rPr>
              <a:t>OF CHRI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25160" y="6756480"/>
            <a:ext cx="4510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Palatino"/>
              </a:rPr>
              <a:t>©Resource Publications, Searcy AR, 2003, 2005. All rights reserved. Permission is granted for use in teaching and preaching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7572200">
            <a:off x="4011840" y="6868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HOENI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91280" y="2666880"/>
            <a:ext cx="77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he Great S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16200000">
            <a:off x="4533120" y="3209040"/>
            <a:ext cx="72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rdan R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401760" y="217440"/>
            <a:ext cx="8381880" cy="552456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401760" y="217440"/>
            <a:ext cx="8369280" cy="5524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01760" y="217440"/>
            <a:ext cx="8369280" cy="552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-24120" y="5799240"/>
            <a:ext cx="9249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JERUSALEM—Shown here is a section of the Western Wall of the temple complex. The stones were part of the foundatio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retaining wall that Herod had built around the Temple Mount. This is the only part of the temple complex that was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stroyed by the Romans in A.D. 70. Visible in the background is the Dome of the Rock, a mosque which now occupies th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the magnificent temple once 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9600" y="651024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230040" y="954000"/>
            <a:ext cx="8686800" cy="450864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64080" y="5532480"/>
            <a:ext cx="876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DEL OF THE CITY OF JERUSALEM—This model, displayed in modern Jerusalem, depicts the layout of the city in Jesu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y. Representations of the Fortress Antonia and Herod’s temple can be identified toward the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520" y="638316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86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Judea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stry Shifted to Ju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k. 9:51–62; Jn. 7:2–10; see Mt. 8:19–22; 19:1; Jn. 7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erusalem: the Feast of Tabernacles (Jn. 7:11–10: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-13680" y="5557680"/>
            <a:ext cx="893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WESTERN WALL—Jews still gather at this wall to pray and to mourn the destruction of the temple. Note the siz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dividual stones, evidence of Herod’s great architectural sk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230040" y="903240"/>
            <a:ext cx="8686800" cy="459756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230040" y="903240"/>
            <a:ext cx="8686800" cy="459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0040" y="903240"/>
            <a:ext cx="8686800" cy="459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0520" y="640872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4" name=""/>
          <p:cNvGrpSpPr/>
          <p:nvPr/>
        </p:nvGrpSpPr>
        <p:grpSpPr>
          <a:xfrm>
            <a:off x="738360" y="204840"/>
            <a:ext cx="7670520" cy="5308560"/>
            <a:chOff x="738360" y="204840"/>
            <a:chExt cx="7670520" cy="5308560"/>
          </a:xfrm>
        </p:grpSpPr>
        <p:pic>
          <p:nvPicPr>
            <p:cNvPr id="1125" name="" descr=""/>
            <p:cNvPicPr/>
            <p:nvPr/>
          </p:nvPicPr>
          <p:blipFill>
            <a:blip r:embed="rId1"/>
            <a:stretch/>
          </p:blipFill>
          <p:spPr>
            <a:xfrm>
              <a:off x="738360" y="204840"/>
              <a:ext cx="7670520" cy="26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2"/>
            <a:stretch/>
          </p:blipFill>
          <p:spPr>
            <a:xfrm>
              <a:off x="738360" y="2871720"/>
              <a:ext cx="7670520" cy="264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7" name=""/>
          <p:cNvSpPr/>
          <p:nvPr/>
        </p:nvSpPr>
        <p:spPr>
          <a:xfrm>
            <a:off x="-95040" y="5659560"/>
            <a:ext cx="9352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RDEN OF GETHSEMANE—Located east of Jerusalem, across the Kidron Valley on the Mount of Olives, this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ot was a favorite place for Jesus to pray and spend quiet time with His apostles (Jn. 18:1, 2). Matthew 26:30, 36 and Mark 14:26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32 give the impression that the garden area itself was reached by passing through the olive orchard on the hillside (J.C. DeYou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ethsemane,” The Zondervan Pictorial Encyclopedia of the Bible, ed. Merrill C. Tenney [Grand Rapids, Mich.: Zonder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blishing House, 1975], 2:70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0520" y="662472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217440" y="281160"/>
            <a:ext cx="8686800" cy="529560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217440" y="281160"/>
            <a:ext cx="8686800" cy="5295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17440" y="281160"/>
            <a:ext cx="8686800" cy="529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-280440" y="5753160"/>
            <a:ext cx="9716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RDON’S CALVARY”–Identified by Charles Gordon in 1885 as the probable site of Christ’s crucifixion, this area north of Jerusa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s known as the Skull Hill. Gordon reasoned that Jesus would have been slain north of the altar, as were sacrificial lambs in the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stament (Lev. 1:11). He was unaware that the traditional site (where the Church of the Holy Sepulchre stands) was outside the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at existed in Jesus’ day (John McRay, Archaeology and the New Testament , [Grand Rapids, Mich.: Baker Book House, 1991], 211-1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920" y="656100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1754280" y="50760"/>
            <a:ext cx="5389560" cy="587700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/>
          <p:nvPr/>
        </p:nvSpPr>
        <p:spPr>
          <a:xfrm>
            <a:off x="1281960" y="6000840"/>
            <a:ext cx="6480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LATE”—This stone found in the Roman theater in Caesarea bears the Latin in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eaning “Pontius Pilate, Prefect of Judea.” Archaeological findings such as this revea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istorical accuracy of the B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278000" y="659772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1665360" y="63360"/>
            <a:ext cx="5402160" cy="591516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1277640" y="6026040"/>
            <a:ext cx="6543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PAVEMENT”—This area very likely was once a part of the Fortress Antonia.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rked the beginning of the Via Dolorosa, the path Christ traveled toward His crucifix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me believe it was at the Herodian pa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78000" y="666108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468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Judea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Judean Ministry (Lk. 10:1—13: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t of Dedication (Lk. 13:22; Jn. 10:22–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51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e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ean Min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19:1, 2; Mk. 10:1; Lk. 13:23—17:10; Jn. 10:40–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22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oughout Pal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thany (Jn. 11:1–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our of Palestine (Lk. 17:11b; Jn. 11: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Journey to Jerusa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19:1—20:34; Mk. 10:1–52; Lk. 17:11—19: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61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nal App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 Afternoon: Arrival at Bethany (Jn. 11:55—12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day Evening: a Banquet in Beth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6:6–13; Mk. 14:3–9; Jn. 12:2–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day Afternoon: the Triumphal Entry into Jerusa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1:1–11; Mk. 11:1–11; Lk. 19:29–44; Jn. 12:12–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: Cursing a Fig Tree, Cleansing the Temple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ing the Blind and the L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1:12–19; Mk. 11:12–19; Lk. 19:45–48; 21:37, 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: “The Great Day of Questions” (Mt. 21:20—25:46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. 11:20—13:37; Lk. 20:1—21:36; Jn. 12:20–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33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nal Depa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: “The Great Day of Questions”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559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 for His Death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: the Calm Before the 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6:1–16; Mk. 14:1, 2, 10, 11; Lk. 22:1–6; Jn. 13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: Preparation for the Pass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6:17–19; Mk. 14:12–16; Lk. 22:7–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: the Day of Jesus’ Death (Mt. 26:20—27:6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. 14:17—15:47; Lk. 22:14—23:56a; Jn. 13:2—19:3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833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 for His Death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: the Day of Jesus’ Death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5:59:34Z</dcterms:created>
  <dc:creator>Ken Kendall Ball</dc:creator>
  <dc:description/>
  <dc:language>en-US</dc:language>
  <cp:lastModifiedBy>DJHarvey</cp:lastModifiedBy>
  <cp:lastPrinted>2005-07-07T21:14:24Z</cp:lastPrinted>
  <dcterms:modified xsi:type="dcterms:W3CDTF">2005-08-08T15:56:09Z</dcterms:modified>
  <cp:revision>24</cp:revision>
  <dc:subject/>
  <dc:title>PowerPoint Presentation</dc:title>
</cp:coreProperties>
</file>