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E20-9919-41A8-86C7-1C8CC67C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98E-DD66-49B5-B989-6452F7F1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A6B-B07E-4B33-A790-357CAFA0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75E-58D7-43B6-A174-14F7906F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449-7C69-411B-A868-7C17BCB4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D1A-EA0C-4137-9B01-3075B2EC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296-7915-45F6-A929-21B15CEC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E0F-8E9C-4AF5-9F32-C8252562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3FC-4356-496C-8788-135BE381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3D8-954D-4A11-89B5-6D5FA9D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C3D-5044-4C42-8DC0-46DA7731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D0D-5383-47A9-A8AA-24C38A96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0414-47AB-46D8-A22E-1E4BB928E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146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Digging Deep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Life of Christ,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A 13-week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or use with the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Life of Christ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ruth for Today Comment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by David L. 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33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rayal, Arrest, and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: the Day of Jesus’ Death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833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th and Burial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: the Day of Jesus’ Death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6120"/>
            <a:ext cx="91440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th and Burial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: the Day of Jesus’ Death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day: the Day after Jesus’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7:62–66; Lk. 23:56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us’ Resurrection, Appearances, and Ascension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day: the Day of Jesus’ Resu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8:1–8; Mk. 16:1–8; Lk. 24:1–12; Jn. 20:1–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1034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us’ Resurrection, Appearances, and Ascension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ty Days (Mt. 28:9–20; Mk. 16:9–19; Lk. 24:13–5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. 20:11—21:24; see Acts 1: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Statements (Jn. 20:30, 31; 21:25; Mk. 16:2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k. 24:52, 53; Acts 1: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50960" y="146160"/>
            <a:ext cx="207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HEROD’S TE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632628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3560" y="1050840"/>
            <a:ext cx="43434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V="1">
            <a:off x="7456320" y="1049040"/>
            <a:ext cx="180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32160" y="1893960"/>
            <a:ext cx="747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SABB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t. 27:6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Lk. 23: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5360" y="205884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An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" y="3506760"/>
            <a:ext cx="5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8360" y="4925880"/>
            <a:ext cx="479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U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7120" y="1411200"/>
            <a:ext cx="11498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He has ris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t. 28:1–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ark 16:1–6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Lk. 24:1–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Jn. 20:1–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24880" y="1360440"/>
            <a:ext cx="70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Caiap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19760" y="1957320"/>
            <a:ext cx="44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Pi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41200" y="2629080"/>
            <a:ext cx="713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Cruc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9 a.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k. 15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23480" y="3581280"/>
            <a:ext cx="1006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3 p.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t. 27:46–5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k. 15:33–37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Lk. 23:44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14480" y="4815000"/>
            <a:ext cx="960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T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k. 15:42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Lk. 23:50–5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Mt. 27:57–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4840" y="5862600"/>
            <a:ext cx="8661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4840" y="1049400"/>
            <a:ext cx="8674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9240" y="1049400"/>
            <a:ext cx="1440" cy="482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22200" y="108108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A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24760" y="2979720"/>
            <a:ext cx="2516040" cy="23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78400" y="3084480"/>
            <a:ext cx="241776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chart is based on Jewish reckoning of time. A new day began at sundown—about 6:00 p.m. The phrases used in the Scriptures (such as “third hour” and “ninth hour”) have been translated into modern terms (“9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.m.” and “3:00 p.m.”). (Adapted From Dr. Nat Cooper, </a:t>
            </a:r>
            <a:r>
              <a:rPr b="0" i="1" lang="en-US" sz="1200" spc="-1" strike="noStrike">
                <a:solidFill>
                  <a:srgbClr val="000000"/>
                </a:solidFill>
                <a:latin typeface="Palatino"/>
              </a:rPr>
              <a:t>A Stu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alatino"/>
              </a:rPr>
              <a:t>of the Life of Christ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[Lubbock, Tex: Sunset International Bible Institute, n.d.], 54. Used with permissio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19000" y="442116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25440" y="442116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92200" y="442116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96760" y="442116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56880" y="45482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75480" y="4548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4200" y="5665680"/>
            <a:ext cx="37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02280" y="5665680"/>
            <a:ext cx="37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23320" y="5665680"/>
            <a:ext cx="37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P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64880" y="108108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A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82000" y="108108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6 A.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12000" y="471600"/>
            <a:ext cx="417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THREE DAYS AND NIGHTS IN THE TO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9520" y="83988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FRI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33080" y="839880"/>
            <a:ext cx="100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ATUR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40440" y="839880"/>
            <a:ext cx="7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5040" y="621180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89440" y="1628640"/>
            <a:ext cx="4670280" cy="3733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961920" y="37447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974880" y="2307960"/>
            <a:ext cx="0" cy="113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949320" y="1436400"/>
            <a:ext cx="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61920" y="1436760"/>
            <a:ext cx="39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5680" y="143676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1436760"/>
            <a:ext cx="0" cy="41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00480" y="2193840"/>
            <a:ext cx="0" cy="38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25680" y="318132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25680" y="4502160"/>
            <a:ext cx="0" cy="25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89520" y="214164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89600" y="214164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168720" y="1060560"/>
            <a:ext cx="1440" cy="481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068880" y="1060560"/>
            <a:ext cx="1800" cy="481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864640" y="1058400"/>
            <a:ext cx="1440" cy="481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3600" y="1052640"/>
            <a:ext cx="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3600" y="2489040"/>
            <a:ext cx="0" cy="338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27200" y="105732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27200" y="1636560"/>
            <a:ext cx="0" cy="421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52800" y="0"/>
            <a:ext cx="4070160" cy="6567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27040" y="673560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25160" y="6756480"/>
            <a:ext cx="4510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Palatino"/>
              </a:rPr>
              <a:t>©Resource Publications, Searcy AR, 2003, 2005. All rights reserved. Permission is granted for use in teaching and preaching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32080" y="0"/>
            <a:ext cx="427500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1760" y="217440"/>
            <a:ext cx="8381880" cy="5524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1760" y="217440"/>
            <a:ext cx="8369280" cy="5524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1760" y="217440"/>
            <a:ext cx="8369280" cy="552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24120" y="5799240"/>
            <a:ext cx="9249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JERUSALEM—Shown here is a section of the Western Wall of the temple complex. The stones were part of the foundatio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retaining wall that Herod had built around the Temple Mount. This is the only part of the temple complex that was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stroyed by the Romans in A.D. 70. Visible in the background is the Dome of the Rock, a mosque which now occupies th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the magnificent temple once 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00" y="651024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0040" y="954000"/>
            <a:ext cx="8686800" cy="4508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080" y="5532480"/>
            <a:ext cx="876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DEL OF THE CITY OF JERUSALEM—This model, displayed in modern Jerusalem, depicts the layout of the city in Jesu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y. Representations of the Fortress Antonia and Herod’s temple can be identified toward the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20" y="638316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86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Judea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stry Shifted to Ju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k. 9:51–62; Jn. 7:2–10; see Mt. 8:19–22; 19:1; Jn. 7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erusalem: the Feast of Tabernacles (Jn. 7:11–10: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3680" y="5557680"/>
            <a:ext cx="893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WESTERN WALL—Jews still gather at this wall to pray and to mourn the destruction of the temple. Note the siz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dividual stones, evidence of Herod’s great architectural sk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0040" y="903240"/>
            <a:ext cx="8686800" cy="4597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0040" y="903240"/>
            <a:ext cx="8686800" cy="459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040" y="903240"/>
            <a:ext cx="8686800" cy="459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20" y="640872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738360" y="204840"/>
            <a:ext cx="7670520" cy="5308560"/>
            <a:chOff x="738360" y="204840"/>
            <a:chExt cx="7670520" cy="53085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738360" y="204840"/>
              <a:ext cx="7670520" cy="26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738360" y="2871720"/>
              <a:ext cx="7670520" cy="264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-95040" y="5659560"/>
            <a:ext cx="9352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RDEN OF GETHSEMANE—Located east of Jerusalem, across the Kidron Valley on the Mount of Olives, this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ot was a favorite place for Jesus to pray and spend quiet time with His apostles (Jn. 18:1, 2). Matthew 26:30, 36 and Mark 14:26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32 give the impression that the garden area itself was reached by passing through the olive orchard on the hillside (J.C. DeYou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ethsemane,” The Zondervan Pictorial Encyclopedia of the Bible, ed. Merrill C. Tenney [Grand Rapids, Mich.: Zonder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blishing House, 1975], 2:70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20" y="662472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7440" y="281160"/>
            <a:ext cx="8686800" cy="5295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17440" y="281160"/>
            <a:ext cx="8686800" cy="5295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7440" y="281160"/>
            <a:ext cx="8686800" cy="529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80440" y="5753160"/>
            <a:ext cx="9716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RDON’S CALVARY”–Identified by Charles Gordon in 1885 as the probable site of Christ’s crucifixion, this area north of Jerusa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s known as the Skull Hill. Gordon reasoned that Jesus would have been slain north of the altar, as were sacrificial lambs in the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stament (Lev. 1:11). He was unaware that the traditional site (where the Church of the Holy Sepulchre stands) was outside the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at existed in Jesus’ day (John McRay, Archaeology and the New Testament , [Grand Rapids, Mich.: Baker Book House, 1991], 211-1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20" y="656100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54280" y="50760"/>
            <a:ext cx="5389560" cy="5877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81960" y="6000840"/>
            <a:ext cx="6480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LATE”—This stone found in the Roman theater in Caesarea bears the Latin in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eaning “Pontius Pilate, Prefect of Judea.” Archaeological findings such as this revea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istorical accuracy of the B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78000" y="659772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65360" y="63360"/>
            <a:ext cx="5402160" cy="5915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77640" y="6026040"/>
            <a:ext cx="6543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PAVEMENT”—This area very likely was once a part of the Fortress Antonia.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rked the beginning of the Via Dolorosa, the path Christ traveled toward His crucifix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me believe it was at the Herodian pa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78000" y="6661080"/>
            <a:ext cx="6024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Palatino"/>
              </a:rPr>
              <a:t>©Resource Publications, Searcy, AR, 2003, 2005. All rights reserved. Permission is granted for use in teaching and preach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468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Judea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Judean Ministry (Lk. 10:1—13: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t of Dedication (Lk. 13:22; Jn. 10:22–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51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e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ean Min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19:1, 2; Mk. 10:1; Lk. 13:23—17:10; Jn. 10:40–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22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oughout Pal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thany (Jn. 11:1–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our of Palestine (Lk. 17:11b; Jn. 11: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Journey to Jerusa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19:1—20:34; Mk. 10:1–52; Lk. 17:11—19: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61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nal App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 Afternoon: Arrival at Bethany (Jn. 11:55—12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day Evening: a Banquet in Beth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6:6–13; Mk. 14:3–9; Jn. 12:2–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day Afternoon: the Triumphal Entry into Jerusa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1:1–11; Mk. 11:1–11; Lk. 19:29–44; Jn. 12:12–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: Cursing a Fig Tree, Cleansing the Temple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ing the Blind and the L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1:12–19; Mk. 11:12–19; Lk. 19:45–48; 21:37, 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: “The Great Day of Questions” (Mt. 21:20—25:46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. 11:20—13:37; Lk. 20:1—21:36; Jn. 12:20–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33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nal Depa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: “The Great Day of Questions”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559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 for His Death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: the Calm Before the 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6:1–16; Mk. 14:1, 2, 10, 11; Lk. 22:1–6; Jn. 13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: Preparation for the Pass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t. 26:17–19; Mk. 14:12–16; Lk. 22:7–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: the Day of Jesus’ Death (Mt. 26:20—27:6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. 14:17—15:47; Lk. 22:14—23:56a; Jn. 13:2—19:3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833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 for His Death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day: the Day of Jesus’ Death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5:59:34Z</dcterms:created>
  <dc:creator/>
  <dc:description/>
  <dc:language>en-US</dc:language>
  <cp:lastModifiedBy>DJHarvey</cp:lastModifiedBy>
  <cp:lastPrinted>2005-07-07T21:14:24Z</cp:lastPrinted>
  <dcterms:modified xsi:type="dcterms:W3CDTF">2005-08-08T15:53:36Z</dcterms:modified>
  <cp:revision>27</cp:revision>
  <dc:subject/>
  <dc:title>Life of Christ, 1</dc:title>
</cp:coreProperties>
</file>