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2083B-8CC4-4575-9959-CA3145BF6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EEE7-AA76-49C4-AE6D-1277BAFBA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4F6E-F025-4615-8BDD-BF87ABE5F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E7BB-3A30-43D1-878A-F69716A6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542F-B526-4642-8235-0B074D3B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F24B-8D21-4A0E-91A1-48FB99274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F0CD-411D-4C75-B8F8-5B31699E2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230F-EC81-4CE8-975B-EE21144F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6AED-FB2E-4C59-B457-5956660C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8C3F-8F11-47E3-B3BF-27C39ABF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1B82-5228-4AA2-9296-D4D6C6AF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BC2C-FB76-4D51-BFE1-FC6A1F2D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FAC2-5CF9-4E5C-B4C8-DFA353F8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4645-C285-4945-A8E7-76C1A035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9CEA-9233-43FD-B36F-B343040DB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1616040"/>
            <a:ext cx="91440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Digging Deeper S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Colossians and Philem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A 13-week stu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For use with the </a:t>
            </a:r>
            <a:r>
              <a:rPr b="1" i="1" lang="en-US" sz="2400" spc="-1" strike="noStrike">
                <a:solidFill>
                  <a:srgbClr val="000000"/>
                </a:solidFill>
                <a:latin typeface="Palatino"/>
              </a:rPr>
              <a:t>Colossians and Phile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Truth for Today Comment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"/>
              </a:rPr>
              <a:t>by Owen D. Olbricht and Bruce McLa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210492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ew Life in Christ, Part 1, 2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king the Things Above (3:1–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ting to Death Their Immoral Past (3:5–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ting Off Ungodly Character (3:8, 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100980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New Life in Christ, Part 2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ng Renewed After the Image of Christ (3:10, 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ting On Godly Qualities (3:12–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ponse to Chr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ing His Peace (3: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shiping Him with Singing (3: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ing All in His Name (3: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281240"/>
            <a:ext cx="91440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ponsibilities in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ves to Husbands (3: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sbands to Wives (3:1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ren to Parents (3: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thers to Children (3: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aves to Masters (3:22–2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ters to Slaves (4: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96840"/>
            <a:ext cx="9144000" cy="66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nal Rem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mon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Pray, Especially for Paul (4:2–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ct Wisely Toward Outsiders (4:5,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ions and Commend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ed to Tychicus (4:7,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ated to Onesimus (4: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tings and Rema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tings from Coworkers (4:10–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tings and Remarks to the Brethren (4:15–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ing Remarks (4: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17398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ile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eetings (vv. 1–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nksgiving and Prayer (vv. 4–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ul’s Appeal for Onesimus (vv. 8–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osing (vv. 21–25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-23760"/>
            <a:ext cx="9144000" cy="68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ilar Teachings in Colossians, Ephesians, And Galatian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l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ph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ner strength for Christian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ist, the Head of the church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18; 2:1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22, 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:15; 5: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preeminence of Chri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20–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fullness of Chri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19; 2: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23; 3: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istians’ holines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rough Christ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21, 2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:25–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mystery of past ag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inclusion of the Gentil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26, 27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:9; 3:3–9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2; 4:3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:1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eansing, through faith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those baptiz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12, 13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:2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26, 2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new life with Chri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13; 3: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5,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abolish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the ordinances of the Law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14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14, 1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24, 2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ecial religious day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longer require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1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: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istians to hold to Chris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to not be captiv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false teaching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18–2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:13–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building up of the bod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help from the Hea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1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: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putting off of an evil pas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the putting on of a new lif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8–14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:22–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istians to function as one bod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1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16; 4: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s concerning singin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1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:1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structions for spouses, childre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sters, and servant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18—4: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:23—6: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dec" pos="909720"/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Resource Publications, Searcy, AR, 2005. All rights reserved. Permission is granted for use in teaching and preach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07680" y="6521400"/>
            <a:ext cx="6127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Resource Publications, Searcy, AR, 2005. All rights reserved. Permission is granted for use in teaching and preach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25520" y="4478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37080" y="4478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05360" y="4478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75160" y="4478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55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E ROMAN WORLD IN PAUL’S 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58840" y="468360"/>
            <a:ext cx="862488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1050840"/>
            <a:ext cx="9144000" cy="56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ditions of the Christians at Colossae (2:11–13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ast Condition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use of Chang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sul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iritually uncircumcise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t off the body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irituall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e flesh (fleshly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the flesh, being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ircumcised wh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ssions; v. 13)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ried and raised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ptized and flesh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th Christ in baptism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ssions removed (v. 1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vv. 11, 12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iritually dead (v. 13)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ised with Christ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de alive with Chr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baptism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rough faith in God’s working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v. 12)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vv. 12, 1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ad in transgression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ptized (v. 11)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transgres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v. 13)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given (v. 1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Resource Publications, Searcy, AR, 2005. All rights reserved. Permission is granted for use in teaching and preach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10954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gulations of the Law and Christian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4480" y="1843200"/>
            <a:ext cx="324864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gulation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at Might Be Impo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ulations regarding food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ink, a festival, or a Sabbath day (2:16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ulations related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) self abasement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) worship of angels, 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) visions he has seen (2:18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rees such a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 not handle, taste, or touch” (2:20, 2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187160" y="1949400"/>
            <a:ext cx="448452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Why Christia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re Not Bound by The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y were taken away, were nailed to the cross, were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adow of future practices, and were imposed by evil fo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at have been defeated (2:14, 15, 17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y are based on an inflated, fleshly mind; they do no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e from the head, Christ (2:18b, 19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y refer to things that will perish and are huma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mandments that appear wise but cannot help 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ghting indulgence (2:22, 2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19120" y="6445080"/>
            <a:ext cx="630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Resource Publications, Searcy, AR, 2005. All rights reserved. Permission is granted for use in teaching and preach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92240" y="0"/>
            <a:ext cx="8951760" cy="66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ul’s Admonitions in COLOSSIANS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Refrain from these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ecaus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suasive argument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wisdom and knowled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2:4)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s in Christ (2: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ilosophy, empty deception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se are no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tradition of men, an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ccording to Jesus who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lementary principle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cause He is fully Deity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the world (2:8)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de the Colossians compl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Him (2:8–10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lf-abasement, worship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se come from a fleshly mi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angels and vision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not from the head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2:18)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ist (2:18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owing one to act as a judg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se regulations had bee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various practices of the Law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aken away and were mere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2:16)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adows (2:14, 17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crees, “Do not handle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Colossians had died to thes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 not taste, do not touch!”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these are of no value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2:20, 21)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rolling the passion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the flesh (2:20–2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Resource Publications, Searcy, AR, 2005. All rights reserved. Permission is granted for use in teaching and preach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279360"/>
            <a:ext cx="91440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uth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lace of Origin and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lem of Here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urpose and the Major The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Paul and Timothy (1: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Faithful Colossian Brethren (1: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-23760"/>
            <a:ext cx="9144000" cy="68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UIDELINES FOR CHRISTI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tively, we are to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reas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Keep seeking the things above”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You have been raised up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3:1)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ist” (3: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Set [our] mind[s] on the thing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You have died and your life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ove” (3:2)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dden with Christ in God” (3: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Put on” certain qualities (3:12)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[You] have been chosen of God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y and beloved” (3:12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gatively, we are to: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e reaso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Set [our] mind[s] . . . not on th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You have died and your life i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ngs that are on earth” (3:2)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dden with Christ in God” (3: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Consider the members of [our]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You also will be reveal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rthly bod[ies] as dead . . .”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m in glory” when “the wr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3:5)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God will come upon the s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disobedience” (3:4, 6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Put . . . aside” certain practice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“[You] have put on the new self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3:8)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3:10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01720"/>
                <a:tab algn="dec" pos="909720"/>
                <a:tab algn="l" pos="1028880"/>
                <a:tab algn="l" pos="4451400"/>
                <a:tab algn="dec" pos="4572000"/>
                <a:tab algn="l" pos="4692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Resource Publications, Searcy, AR, 2005. All rights reserved. Permission is granted for use in teaching and preach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54080" y="646200"/>
            <a:ext cx="8989920" cy="60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UIDELINES FOR RELATIONSHIPS in 3:18—4: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erses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hose Addressed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xpla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18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v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 subject to your husband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 is fitting in the Lo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19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usband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ve your w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2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ildre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 obedient to your parent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his is well-pleasing to the L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2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ther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o not exasperate your children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 that they will not lose he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22–25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av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bey those who are your masters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 with external service, plea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n, but sincerely, fearing the Lor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ork heartily, as for the Lord ra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an 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: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ster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eat slaves with justice and fairnes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you too have a Master in heav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Resource Publications, Searcy, AR, 2005. All rights reserved. Permission is granted for use in teaching and preach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440" y="1166760"/>
            <a:ext cx="9144000" cy="45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WORDS IN PHILEM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Key Word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anksgiving and Prayer (vv. 4–7)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dy of the Letter (vv. 8–2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yers”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. 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. 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ve”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v. 5, 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.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llowship”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. 6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. 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(ness)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. 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. 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art”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. 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v. 12,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fresh”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. 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.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other”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. 7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.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03280" y="6613560"/>
            <a:ext cx="633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©Resource Publications, Searcy, AR, 2005. All rights reserved. Permission is granted for use in teaching and preaching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37484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ul’s Thanksgiving for the Colossi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Prayer of Thanks (1: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Faith and Love (1: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Hope of Heaven (1: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ruit Resulting from Their Faith (1: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paphras’ Report (1:7,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374840"/>
            <a:ext cx="9144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ul’s Prayer for the Colossi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Knowledge and Spiritual Wisdom (1: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Christian Walk and Fruit Bearing (1: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Spiritual Strength (1:11, 12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Entrance into the Kingdom of Light (1:12b, 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Forgiveness and Ours in Christ (1: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11923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Greatness of Chr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mage of the Invisible G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 Firstborn of All Creation (1: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reator of All Things (1: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One Who Holds All Things Together (1: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Head of the Church and Supreme (1:18, 1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sis of Reconciliation (1:2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64440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conciliation Through Chr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Former Condition (1:2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Reconciliation Through the Death of Christ (1:2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Required Faithfulness (1:2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ul’s Labors for the Colossi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Joy: Suffering for Their Sake (1:2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ystery Revealed to Them (1:25–2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Goal for Them: Completeness in Christ (1:28, 2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23760"/>
            <a:ext cx="9144000" cy="68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rist, the Source of Wisdom and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Desire: Their Full Understa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God’s Mystery (2:1,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Revelation: All Wisdom and Knowledge in Christ (2:3,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Delight: Their Faith in Christ (2: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Admonition: To Walk in Christ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Had Received Him (2: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Encouragement: To Be Built Up in Christ (2: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ul’s Picture of the Fullness of Christ, Par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aution to Not Be Taken Capti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Human Teachings (2: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ity Embodied in Christ (2: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7398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ul’s Picture of the Fullness of Christ, Par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ness in Christ (2:10, 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fe and Forgiveness in Christ (2:12, 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eedom in Christ from Law Ordinances (2: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sition Exposed by Christ (2: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210492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lding Fast to the H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llowing Christ Instead of the Law (2:16, 17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oiding Human Practices (2:18, 1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81120"/>
                <a:tab algn="l" pos="1149480"/>
                <a:tab algn="l" pos="1376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ing with Christ to the World’s Principles (2:20–2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9T13:41:27Z</dcterms:created>
  <dc:creator/>
  <dc:description/>
  <dc:language>en-US</dc:language>
  <cp:lastModifiedBy>DJHarvey</cp:lastModifiedBy>
  <cp:lastPrinted>2005-07-12T21:14:36Z</cp:lastPrinted>
  <dcterms:modified xsi:type="dcterms:W3CDTF">2005-08-02T15:46:06Z</dcterms:modified>
  <cp:revision>47</cp:revision>
  <dc:subject/>
  <dc:title>Colossians/Philemon</dc:title>
</cp:coreProperties>
</file>