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D6AC-8266-4676-81A6-8C048258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C4B-B7C2-4BEB-B663-FA9029DE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919-9605-4A44-8A47-A2BA98D0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CAB8-63A7-41E6-ADCC-4AAD5680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A228-6ECE-4A29-9420-4AA1328F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D633-85F2-47D2-AADC-8F6FEEFC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24AE-DB7F-4872-96BB-1FCC628D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D272-29B7-4ABD-9232-8B456D03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E324-778A-4887-A005-8BA6A6CE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DE39-3890-46E6-B4E3-1DFBA71B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447E-D424-45CD-B125-6D06EC50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CF7C-6BFE-47FE-A46C-15C4F9BC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3B5D-436A-4387-B806-BCA7685EC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61604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Digging Deeper 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Colossians and Phile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A 13-week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For use with the </a:t>
            </a:r>
            <a:r>
              <a:rPr b="1" i="1" lang="en-US" sz="2400" spc="-1" strike="noStrike">
                <a:solidFill>
                  <a:srgbClr val="000000"/>
                </a:solidFill>
                <a:latin typeface="Palatino"/>
              </a:rPr>
              <a:t>Colossians and Phile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Truth for Today Comment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by Owen D. Olbricht and Bruce McL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10492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ew Life in Christ, Part 1, 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king the Things Above (3:1–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ting to Death Their Immoral Past (3:5–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ting Off Ungodly Character (3:8,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098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ew Life in Christ, Part 2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Renewed After the Image of Christ (3:10, 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ting On Godly Qualities (3:12–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ponse to Chr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ing His Peace (3: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shiping Him with Singing (3: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ing All in His Name (3: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1240"/>
            <a:ext cx="91440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ponsibilities in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ves to Husbands (3: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sbands to Wives (3: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to Parents (3: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hers to Children (3: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s to Masters (3:22–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s to Slaves (4: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6840"/>
            <a:ext cx="9144000" cy="66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l Rem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o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ay, Especially for Paul (4:2–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ct Wisely Toward Outsiders (4:5,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s and 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ed to Tychicus (4:7,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ed to Onesimus (4: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tings and Rem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tings from Coworkers (4:10–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tings and Remarks to the Brethren (4:15–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ing Remarks (4: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7398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ile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tings (vv. 1–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giving and Prayer (vv. 4–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’s Appeal for Onesimus (vv. 8–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ing (vv. 21–25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-23760"/>
            <a:ext cx="9144000" cy="68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ilar Teachings in Colossians, Ephesians, And Galatian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ph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ner strength for Christian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ist, the Head of the church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18; 2:1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22,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:15; 5: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reeminence of Chri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20–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fullness of Chri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19; 2: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23; 3: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istians’ holi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rough Chris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21, 2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:25–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mystery of past ag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inclusion of the Gentil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26, 27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9; 3:3–9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2; 4:3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:1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eansing, through faith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those baptiz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12, 1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:2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26, 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new life with Chri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13; 3: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5,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abolish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e ordinances of the Law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14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14, 1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24,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al religious day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longer requir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1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: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istians to hold to Chris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to not be capti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false teaching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18–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:13–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building up of the bod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help from the Hea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1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: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utting off of an evil pas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the putting on of a new lif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8–1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:22–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istians to function as one bod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1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16; 4: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 concerning sing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1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: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 for spouses, childre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ters, and servant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18—4: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:23—6: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Resource Publications, Searcy, AR, 2005. All rights reserved. Permission is granted for use in teaching and preach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07680" y="6521400"/>
            <a:ext cx="612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Resource Publications, Searcy, AR, 2005. All rights reserved. Permission is granted for use in teaching and preach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25520" y="4478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37080" y="4478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05360" y="4478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75160" y="4478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55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ROMAN WORLD IN PAUL’S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7440" y="595440"/>
            <a:ext cx="862956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050840"/>
            <a:ext cx="9144000" cy="56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ditions of the Christians at Colossae (2:11–13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t Conditio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use of Chang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iritually uncircumcise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t off the bod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iritual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flesh (fleshl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e flesh, being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rcumcised w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ssions; v. 13)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ried and raise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ptized and flesh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Christ in baptis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ssions removed (v. 1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vv. 11, 12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iritually dead (v. 13)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ised with Chris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de alive with Chr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baptis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rough faith in God’s working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v. 12)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vv. 12, 1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ad in transgression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ptized (v. 11)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transgre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v. 13)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given (v. 1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Resource Publications, Searcy, AR, 2005. All rights reserved. Permission is granted for use in teaching and preach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54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gulations of the Law and Christia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4480" y="1843200"/>
            <a:ext cx="32486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gulation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at Might Be Imp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ulations regarding foo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ink, a festival, or a Sabbath day (2:16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ulations related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) self abasemen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) worship of angels, 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) visions he has seen (2:18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rees such a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 not handle, taste, or touch” (2:20, 2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87160" y="1949400"/>
            <a:ext cx="44845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y Christia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e Not Bound by The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y were taken away, were nailed to the cross, wer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dow of future practices, and were imposed by evil fo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at have been defeated (2:14, 15, 17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y are based on an inflated, fleshly mind; they do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e from the head, Christ (2:18b, 19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y refer to things that will perish and are hum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andments that appear wise but cannot help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ghting indulgence (2:22, 2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19120" y="6445080"/>
            <a:ext cx="630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Resource Publications, Searcy, AR, 2005. All rights reserved. Permission is granted for use in teaching and preach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2240" y="0"/>
            <a:ext cx="8951760" cy="66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ul’s Admonitions in COLOSSIANS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frain from these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caus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uasive argumen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wisdom and knowled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2:4)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in Christ (2: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ilosophy, empty deception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se are no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tradition of men, a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ording to Jesus who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mentary principle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cause He is fully Deity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e world (2:8)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de the Colossians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Him (2:8–10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lf-abasement, worship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se come from a fleshly mi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angels and vision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not from the head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2:18)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ist (2:18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owing one to act as a judg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se regulations had be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various practices of the La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aken away and were mere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2:16)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dows (2:14, 17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rees, “Do not handle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olossians had died to thes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 not taste, do not touch!”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these are of no value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2:20, 21)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ling the pass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e flesh (2:20–2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Resource Publications, Searcy, AR, 2005. All rights reserved. Permission is granted for use in teaching and preach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7936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lace of Origin and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lem of Here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urpose and the Major T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aul and Timothy (1: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aithful Colossian Brethren (1: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-23760"/>
            <a:ext cx="9144000" cy="68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UIDELINES FOR CHRISTI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tively, we are to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reas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Keep seeking the things above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You have been raised up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3:1)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ist” (3: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Set [our] mind[s] on the thing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You have died and your life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ove” (3:2)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dden with Christ in God” (3: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Put on” certain qualities (3:12)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[You] have been chosen of God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y and beloved” (3:12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gatively, we are to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reas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Set [our] mind[s] . . . not on th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You have died and your life 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ngs that are on earth” (3:2)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dden with Christ in God” (3: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Consider the members of [our]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You also will be reveal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rthly bod[ies] as dead . . .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m in glory” when “the wr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3:5)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God will come upon the 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disobedience” (3:4, 6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Put . . . aside” certain practice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[You] have put on the new self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3:8)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3:10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Resource Publications, Searcy, AR, 2005. All rights reserved. Permission is granted for use in teaching and preach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4080" y="646200"/>
            <a:ext cx="898992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UIDELINES FOR RELATIONSHIPS in 3:18—4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erses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ose Addresse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la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v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 subject to your husband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 is fitting in the Lo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1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usband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ve your w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ildre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 obedient to your parent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his is well-pleasing to the L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2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the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 not exasperate your children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 that they will not lose he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22–2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av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ey those who are your masters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with external service, plea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n, but sincerely, fearing the Lor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k heartily, as for the Lord ra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an 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: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te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eat slaves with justice and fairnes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you too have a Master in heav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Resource Publications, Searcy, AR, 2005. All rights reserved. Permission is granted for use in teaching and preach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0" y="1166760"/>
            <a:ext cx="914400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WORDS IN PHILE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ey Wor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anksgiving and Prayer (vv. 4–7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dy of the Letter (vv. 8–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yers”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.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. 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ve”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v. 5, 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.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llowship”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. 6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. 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(ness)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. 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. 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rt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. 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v. 12,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resh”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. 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.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ther”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. 7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.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03280" y="6613560"/>
            <a:ext cx="633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Resource Publications, Searcy, AR, 2005. All rights reserved. Permission is granted for use in teaching and preach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3748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Thanksgiving for the Coloss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ayer of Thanks (1: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Faith and Love (1: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Hope of Heaven (1: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ruit Resulting from Their Faith (1: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aphras’ Report (1:7,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3748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Prayer for the Coloss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Knowledge and Spiritual Wisdom (1: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Christian Walk and Fruit Bearing (1: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Spiritual Strength (1:11, 12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Entrance into the Kingdom of Light (1:12b, 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Forgiveness and Ours in Christ (1: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1923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reatness of Chr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age of the Invisible G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Firstborn of All Creation (1: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eator of All Things (1: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ne Who Holds All Things Together (1: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ad of the Church and Supreme (1:18, 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sis of Reconciliation (1: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444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nciliation Through Chr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Former Condition (1: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Reconciliation Through the Death of Christ (1:2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Required Faithfulness (1: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Labors for the Coloss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Joy: Suffering for Their Sake (1:2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ystery Revealed to Them (1:25–2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Goal for Them: Completeness in Christ (1:28, 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3760"/>
            <a:ext cx="9144000" cy="68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rist, the Source of Wisdom and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Desire: Their Full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God’s Mystery (2:1,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Revelation: All Wisdom and Knowledge in Christ (2:3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Delight: Their Faith in Christ (2: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Admonition: To Walk in Christ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Had Received Him (2: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Encouragement: To Be Built Up in Christ (2: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Picture of the Fullness of Christ, 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ution to Not Be Taken Cap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uman Teachings (2: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ity Embodied in Christ (2: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7398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Picture of the Fullness of Christ, Par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ness in Christ (2:10, 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and Forgiveness in Christ (2:12, 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dom in Christ from Law Ordinances (2: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ion Exposed by Christ (2: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10492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lding Fast to th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 Christ Instead of the Law (2:16, 1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ing Human Practices (2:18, 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ing with Christ to the World’s Principles (2:20–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13:41:27Z</dcterms:created>
  <dc:creator/>
  <dc:description/>
  <dc:language>en-US</dc:language>
  <cp:lastModifiedBy>DJHarvey</cp:lastModifiedBy>
  <cp:lastPrinted>2005-07-12T21:14:36Z</cp:lastPrinted>
  <dcterms:modified xsi:type="dcterms:W3CDTF">2005-08-02T15:45:12Z</dcterms:modified>
  <cp:revision>54</cp:revision>
  <dc:subject/>
  <dc:title>Colossians/Philemon</dc:title>
</cp:coreProperties>
</file>