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4.pct" ContentType="image/x-pict"/>
  <Override PartName="/ppt/media/image1.pct" ContentType="image/x-pict"/>
  <Override PartName="/ppt/media/image31.pct" ContentType="image/x-pict"/>
  <Override PartName="/ppt/media/image25.pct" ContentType="image/x-pict"/>
  <Override PartName="/ppt/media/image2.pct" ContentType="image/x-pict"/>
  <Override PartName="/ppt/media/image32.pct" ContentType="image/x-pict"/>
  <Override PartName="/ppt/media/image26.pct" ContentType="image/x-pict"/>
  <Override PartName="/ppt/media/image3.pct" ContentType="image/x-pict"/>
  <Override PartName="/ppt/media/image33.pct" ContentType="image/x-pict"/>
  <Override PartName="/ppt/media/image27.pct" ContentType="image/x-pict"/>
  <Override PartName="/ppt/media/image4.pct" ContentType="image/x-pict"/>
  <Override PartName="/ppt/media/image34.pct" ContentType="image/x-pict"/>
  <Override PartName="/ppt/media/image13.pct" ContentType="image/x-pict"/>
  <Override PartName="/ppt/media/image50.pct" ContentType="image/x-pict"/>
  <Override PartName="/ppt/media/image40.pct" ContentType="image/x-pict"/>
  <Override PartName="/ppt/media/image41.pct" ContentType="image/x-pict"/>
  <Override PartName="/ppt/media/image9.pct" ContentType="image/x-pict"/>
  <Override PartName="/ppt/media/image39.pct" ContentType="image/x-pict"/>
  <Override PartName="/ppt/media/image30.pct" ContentType="image/x-pict"/>
  <Override PartName="/ppt/media/image28.pct" ContentType="image/x-pict"/>
  <Override PartName="/ppt/media/image42.pct" ContentType="image/x-pict"/>
  <Override PartName="/ppt/media/image43.pct" ContentType="image/x-pict"/>
  <Override PartName="/ppt/media/image44.pct" ContentType="image/x-pict"/>
  <Override PartName="/ppt/media/image45.pct" ContentType="image/x-pict"/>
  <Override PartName="/ppt/media/image46.pct" ContentType="image/x-pict"/>
  <Override PartName="/ppt/media/image48.pct" ContentType="image/x-pict"/>
  <Override PartName="/ppt/media/image11.pct" ContentType="image/x-pict"/>
  <Override PartName="/ppt/media/image51.pct" ContentType="image/x-pict"/>
  <Override PartName="/ppt/media/image38.pct" ContentType="image/x-pict"/>
  <Override PartName="/ppt/media/image8.pct" ContentType="image/x-pict"/>
  <Override PartName="/ppt/media/image49.pct" ContentType="image/x-pict"/>
  <Override PartName="/ppt/media/image12.pct" ContentType="image/x-pict"/>
  <Override PartName="/ppt/media/image10.pct" ContentType="image/x-pict"/>
  <Override PartName="/ppt/media/image47.pct" ContentType="image/x-pict"/>
  <Override PartName="/ppt/media/image37.pct" ContentType="image/x-pict"/>
  <Override PartName="/ppt/media/image7.pct" ContentType="image/x-pict"/>
  <Override PartName="/ppt/media/image36.pct" ContentType="image/x-pict"/>
  <Override PartName="/ppt/media/image6.pct" ContentType="image/x-pict"/>
  <Override PartName="/ppt/media/image29.pct" ContentType="image/x-pict"/>
  <Override PartName="/ppt/media/image5.pct" ContentType="image/x-pict"/>
  <Override PartName="/ppt/media/image35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463-ABB4-41AB-9785-BC4566AA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F82-7B4B-4B85-A79F-7048865C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239-A729-40EC-B0A1-60CCAA52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9A9-C454-4B9A-AE43-23F06428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70E6-5A8A-4716-BF7A-67B4E74C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98D-136C-4106-80D5-12AAD5EC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484-B42E-4A38-BB99-65248CAD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A4A-EF18-42C8-8DA5-282A692B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21F-F9D7-4DAF-A790-CA55F491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A6A-C65E-49AD-A109-FE803DA4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140-0B33-4BEB-832B-D2645A69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ED8-1B46-4B12-B714-A69ADA8A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BDB0-C8D4-4EBF-8713-E4D16000A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image" Target="../media/image32.pct"/><Relationship Id="rId3" Type="http://schemas.openxmlformats.org/officeDocument/2006/relationships/image" Target="../media/image33.pct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ct"/><Relationship Id="rId2" Type="http://schemas.openxmlformats.org/officeDocument/2006/relationships/image" Target="../media/image35.pct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ct"/><Relationship Id="rId2" Type="http://schemas.openxmlformats.org/officeDocument/2006/relationships/image" Target="../media/image37.pct"/><Relationship Id="rId3" Type="http://schemas.openxmlformats.org/officeDocument/2006/relationships/image" Target="../media/image38.pct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pct"/><Relationship Id="rId2" Type="http://schemas.openxmlformats.org/officeDocument/2006/relationships/image" Target="../media/image40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image" Target="../media/image42.pct"/><Relationship Id="rId3" Type="http://schemas.openxmlformats.org/officeDocument/2006/relationships/image" Target="../media/image43.pct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ct"/><Relationship Id="rId2" Type="http://schemas.openxmlformats.org/officeDocument/2006/relationships/image" Target="../media/image45.pct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pct"/><Relationship Id="rId2" Type="http://schemas.openxmlformats.org/officeDocument/2006/relationships/image" Target="../media/image47.pct"/><Relationship Id="rId3" Type="http://schemas.openxmlformats.org/officeDocument/2006/relationships/image" Target="../media/image48.pct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9.pct"/><Relationship Id="rId2" Type="http://schemas.openxmlformats.org/officeDocument/2006/relationships/image" Target="../media/image50.pct"/><Relationship Id="rId3" Type="http://schemas.openxmlformats.org/officeDocument/2006/relationships/image" Target="../media/image51.pct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6146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Digging Deeper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Acts 15—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A 13-week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For use with the </a:t>
            </a: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Acts 15—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Truth for Today Comment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by David L. 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5736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Imprisonment at Jerusalem, Part 2–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Imprisonment at Caesarea, 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Before the Sanhedrin (23:1–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ncouraging Vision (23: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urderous Conspiracy Exposed (23:12–2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Taken to Caesarea (23:23–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541600"/>
            <a:ext cx="9144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Imprisonment at Caesarea, Par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’s Trial Before Felix (24:1–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 Find Time”: the Non-conversion of Felix (24:24–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468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Imprisonment at Caesarea, Par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, in his Trial Before Festus, Appeals to Caesar (25:1–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Visitors Come to Caesarea (25:13–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52600"/>
            <a:ext cx="914400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Imprisonment at Caesarea, Part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’s Defense Before King Agrippa (26:1–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Persuaded?”: the Non-conversion of Agrip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6:28, 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op: Rome (26:30–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Journey to Rome, 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ourney Begins (27:1–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ned by Paul (27:9–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ntures on the Sea (27:13–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429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Journey to Rome, Par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ntures on an Island (Malta) (28:1–1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ourney Continues; the Arrival at Rome (28:11–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waiting Trial (28:17–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st of the 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inuing Acts of P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inuing Acts of Other First–Century Christ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inuing Acts of Christians Through the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089600" y="55440"/>
            <a:ext cx="1616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HEROD’S TE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29000" y="365040"/>
            <a:ext cx="4178160" cy="6324840"/>
          </a:xfrm>
          <a:custGeom>
            <a:avLst/>
            <a:gdLst/>
            <a:ahLst/>
            <a:rect l="l" t="t" r="r" b="b"/>
            <a:pathLst>
              <a:path w="2632" h="3984">
                <a:moveTo>
                  <a:pt x="2440" y="3984"/>
                </a:moveTo>
                <a:lnTo>
                  <a:pt x="24" y="3984"/>
                </a:lnTo>
                <a:lnTo>
                  <a:pt x="0" y="8"/>
                </a:lnTo>
                <a:lnTo>
                  <a:pt x="2632" y="0"/>
                </a:lnTo>
                <a:lnTo>
                  <a:pt x="2440" y="3984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65280" y="60480"/>
            <a:ext cx="1079640" cy="380880"/>
          </a:xfrm>
          <a:custGeom>
            <a:avLst/>
            <a:gdLst/>
            <a:ahLst/>
            <a:rect l="l" t="t" r="r" b="b"/>
            <a:pathLst>
              <a:path w="680" h="240">
                <a:moveTo>
                  <a:pt x="680" y="200"/>
                </a:moveTo>
                <a:lnTo>
                  <a:pt x="680" y="0"/>
                </a:lnTo>
                <a:lnTo>
                  <a:pt x="0" y="0"/>
                </a:lnTo>
                <a:lnTo>
                  <a:pt x="0" y="240"/>
                </a:lnTo>
                <a:lnTo>
                  <a:pt x="40" y="24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51280" y="2739960"/>
            <a:ext cx="190440" cy="1308240"/>
          </a:xfrm>
          <a:custGeom>
            <a:avLst/>
            <a:gdLst/>
            <a:ahLst/>
            <a:rect l="l" t="t" r="r" b="b"/>
            <a:pathLst>
              <a:path w="120" h="824">
                <a:moveTo>
                  <a:pt x="0" y="528"/>
                </a:moveTo>
                <a:lnTo>
                  <a:pt x="0" y="824"/>
                </a:lnTo>
                <a:lnTo>
                  <a:pt x="0" y="664"/>
                </a:lnTo>
                <a:lnTo>
                  <a:pt x="0" y="520"/>
                </a:lnTo>
                <a:lnTo>
                  <a:pt x="24" y="520"/>
                </a:lnTo>
                <a:lnTo>
                  <a:pt x="80" y="480"/>
                </a:lnTo>
                <a:lnTo>
                  <a:pt x="112" y="448"/>
                </a:lnTo>
                <a:lnTo>
                  <a:pt x="120" y="408"/>
                </a:lnTo>
                <a:lnTo>
                  <a:pt x="112" y="368"/>
                </a:lnTo>
                <a:lnTo>
                  <a:pt x="80" y="328"/>
                </a:lnTo>
                <a:lnTo>
                  <a:pt x="24" y="296"/>
                </a:lnTo>
                <a:lnTo>
                  <a:pt x="0" y="296"/>
                </a:lnTo>
                <a:lnTo>
                  <a:pt x="0" y="152"/>
                </a:lnTo>
                <a:lnTo>
                  <a:pt x="0" y="0"/>
                </a:lnTo>
                <a:lnTo>
                  <a:pt x="0" y="29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30160" y="44604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3462480"/>
            <a:ext cx="54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35480" y="36021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40360" y="3741840"/>
            <a:ext cx="60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8920" y="431316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69800" y="4313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0320" y="4452840"/>
            <a:ext cx="50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2800" y="431316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25120" y="4313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19560" y="445284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60800" y="45925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65560" y="2892600"/>
            <a:ext cx="1295280" cy="1015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67080" y="3006720"/>
            <a:ext cx="825480" cy="787320"/>
          </a:xfrm>
          <a:custGeom>
            <a:avLst/>
            <a:gdLst/>
            <a:ahLst/>
            <a:rect l="l" t="t" r="r" b="b"/>
            <a:pathLst>
              <a:path w="520" h="496">
                <a:moveTo>
                  <a:pt x="520" y="200"/>
                </a:moveTo>
                <a:lnTo>
                  <a:pt x="520" y="0"/>
                </a:lnTo>
                <a:lnTo>
                  <a:pt x="464" y="0"/>
                </a:lnTo>
                <a:lnTo>
                  <a:pt x="416" y="0"/>
                </a:lnTo>
                <a:lnTo>
                  <a:pt x="416" y="96"/>
                </a:lnTo>
                <a:lnTo>
                  <a:pt x="416" y="192"/>
                </a:lnTo>
                <a:lnTo>
                  <a:pt x="200" y="192"/>
                </a:lnTo>
                <a:lnTo>
                  <a:pt x="0" y="192"/>
                </a:lnTo>
                <a:lnTo>
                  <a:pt x="0" y="256"/>
                </a:lnTo>
                <a:lnTo>
                  <a:pt x="0" y="320"/>
                </a:lnTo>
                <a:lnTo>
                  <a:pt x="200" y="320"/>
                </a:lnTo>
                <a:lnTo>
                  <a:pt x="408" y="320"/>
                </a:lnTo>
                <a:lnTo>
                  <a:pt x="408" y="408"/>
                </a:lnTo>
                <a:lnTo>
                  <a:pt x="408" y="496"/>
                </a:lnTo>
                <a:lnTo>
                  <a:pt x="464" y="496"/>
                </a:lnTo>
                <a:lnTo>
                  <a:pt x="520" y="496"/>
                </a:lnTo>
                <a:lnTo>
                  <a:pt x="520" y="29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646440" y="3311640"/>
            <a:ext cx="180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67080" y="3159000"/>
            <a:ext cx="660240" cy="152640"/>
          </a:xfrm>
          <a:custGeom>
            <a:avLst/>
            <a:gdLst/>
            <a:ahLst/>
            <a:rect l="l" t="t" r="r" b="b"/>
            <a:pathLst>
              <a:path w="416" h="96">
                <a:moveTo>
                  <a:pt x="0" y="96"/>
                </a:moveTo>
                <a:lnTo>
                  <a:pt x="0" y="0"/>
                </a:lnTo>
                <a:lnTo>
                  <a:pt x="41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81560" y="3171960"/>
            <a:ext cx="1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38760" y="3159000"/>
            <a:ext cx="1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70120" y="3171960"/>
            <a:ext cx="1800" cy="12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86120" y="3159000"/>
            <a:ext cx="180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75040" y="3171960"/>
            <a:ext cx="180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46440" y="3171960"/>
            <a:ext cx="180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10160" y="3171960"/>
            <a:ext cx="1440" cy="12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81560" y="3514680"/>
            <a:ext cx="144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38760" y="3527280"/>
            <a:ext cx="144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70120" y="3514680"/>
            <a:ext cx="180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75040" y="3514680"/>
            <a:ext cx="180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46440" y="3502080"/>
            <a:ext cx="180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22760" y="3514680"/>
            <a:ext cx="144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67080" y="3514680"/>
            <a:ext cx="647640" cy="127080"/>
          </a:xfrm>
          <a:custGeom>
            <a:avLst/>
            <a:gdLst/>
            <a:ahLst/>
            <a:rect l="l" t="t" r="r" b="b"/>
            <a:pathLst>
              <a:path w="408" h="80">
                <a:moveTo>
                  <a:pt x="0" y="0"/>
                </a:moveTo>
                <a:lnTo>
                  <a:pt x="0" y="80"/>
                </a:lnTo>
                <a:lnTo>
                  <a:pt x="408" y="8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456000" y="3395160"/>
            <a:ext cx="1440" cy="85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925800" y="3369960"/>
            <a:ext cx="1800" cy="88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8720" y="3514680"/>
            <a:ext cx="180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81480" y="3476520"/>
            <a:ext cx="228600" cy="17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86240" y="2179800"/>
            <a:ext cx="54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4560" y="2319480"/>
            <a:ext cx="7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65560" y="2612880"/>
            <a:ext cx="216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60920" y="2612880"/>
            <a:ext cx="215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32240" y="2612880"/>
            <a:ext cx="216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72200" y="2612880"/>
            <a:ext cx="2286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8160" y="4175280"/>
            <a:ext cx="216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73520" y="4175280"/>
            <a:ext cx="216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32240" y="4175280"/>
            <a:ext cx="228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84800" y="4175280"/>
            <a:ext cx="228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9760" y="2448000"/>
            <a:ext cx="144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15640" y="3181320"/>
            <a:ext cx="84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UTI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79680" y="2192400"/>
            <a:ext cx="54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9400" y="2332080"/>
            <a:ext cx="90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89400" y="1036800"/>
            <a:ext cx="54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46720" y="118908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480" y="1341360"/>
            <a:ext cx="75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19720" y="507528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49760" y="52149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82640" y="535464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O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21240" y="2460600"/>
            <a:ext cx="144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20120" y="3306600"/>
            <a:ext cx="49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33520" y="671040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76800" y="526104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989680" y="2727000"/>
            <a:ext cx="0" cy="41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083280" y="2620440"/>
            <a:ext cx="0" cy="52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008160" y="2620800"/>
            <a:ext cx="307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08160" y="2633760"/>
            <a:ext cx="0" cy="153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21120" y="4170240"/>
            <a:ext cx="30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068880" y="3595320"/>
            <a:ext cx="0" cy="56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89680" y="3595680"/>
            <a:ext cx="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102120" y="4076640"/>
            <a:ext cx="2885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089160" y="2739600"/>
            <a:ext cx="0" cy="133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87720" y="2727360"/>
            <a:ext cx="290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63480" y="285840"/>
            <a:ext cx="215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NEW TESTAMENT TI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213480" y="582480"/>
            <a:ext cx="5167080" cy="61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1.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 Languages  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hey had not studi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2.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 Contemporary  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languages th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conveyed mean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3. Only one interpretation possi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4. Emphasis on 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publi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c demonst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5. Nothing to do with 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maturity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 or spiritual growt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6. Did not prove speaker in God’s fav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7. Basically a “sign” to 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others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8. Used to confirm the Wo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9. A unique sign from G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10. Could not be duplicated by non-Christia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11. No emphasis on all speaking in tong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12. Specific instructions given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use in assembly: only with an interpreter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only a few in order, no women speaking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13. Given 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temporarily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 for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special purpose—to 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cease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14. Not emphasiz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70880" y="285840"/>
            <a:ext cx="608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O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7280" y="582480"/>
            <a:ext cx="5325480" cy="60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1. Generally a collection of 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sounds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called “ecstatic utterances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2. Sometimes bits of modern languages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claims concerning some “forgotten language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3. Often, “interpretations” va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4. Emphasis on 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 devotional u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5. Stressed as a sign of growing mat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and a source of greater matur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6. Considered proof of God’s accepta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7. Considered a “sign” to 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sel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8. Leads men to subjective authority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away from the objective authority of the Bi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9. Can be psychologically induc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10. “Ecstatic utterances” found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pagan religions, in false sec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11.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 All 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are urged to seek this “gift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12.Often, every New Testa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instruction is viol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13.Considered a 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permanent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 part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God’s arrangement for the Christian 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14. Greatly emphasiz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86960" y="0"/>
            <a:ext cx="372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SPEAKING IN TONGUES: A  COMPARI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3520" y="672300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41160" y="2543040"/>
            <a:ext cx="60555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Roman Empero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Through the First Cent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175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"/>
              <a:buAutoNum type="arabicPeriod"/>
              <a:tabLst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ius Julius Caesar, 49–44 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Formed First Triumvirate with Pompey and Crassus, 59 B.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Crossed Rubicon to defeat forces of Pompey, 49 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ssassinated by Brutus and Cassius (44 B.C.), in an effor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 the Republic from Julius’ dictatorial pow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Four months after his death, a comet appeared at games h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his honor. The Senate proclaimed him “the Divine Juliu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555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Roman Civil Wars, 44–31 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Octavian formed Second Triumvirate with Mark An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epidus, 43 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Death of Brutus and Cassius at Battle of Philippi, 42 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Forces of Octavian defeat forces of Antony at Actium, 31 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0098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nference in Jerusalem–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Second Missionary Journey, 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pute About Binding the Law on Gentiles (15:1,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nference in Jerusalem; a Letter is Written (15:3–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and Barnabas Take the Letter to Antioch (15:30–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agreement Between Paul and Barnabas (15:36–3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and Silas Start on the Second Missionary Jour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5:40, 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763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Octavian/Augustus, 31 B.C.–A.D.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Great nephew, adopted son, and at age 19 hei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ius Caes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Octavian, with the consent of the Senate, assumes th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us, a title implying a special relationship to the god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 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Maintained the fiction of Republican Rome man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Senate while holding the power him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 shrewd ruler who gave the Empire efficient orga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 stable system of la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Inaugurated the Pax Romana, the Peace of R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Jesus of Nazareth was born during his re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75096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Tiberius, A.D. 14–3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Stepson whom Augustus adopted and made his he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e last 11 years of his reign, he ruled Rome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ing on the island of Capri in the Bay of Na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ppointed Pilate procurator of Jude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Ruled the Empire during the ministry and death of Jes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A deeply conservative Roman, he refused to ac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ne honors. Unlike his two predecessors, the Sen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not declare him divine after his d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660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Gaius/Caligula, A.D. 37–4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Son of the military leader Germanicus, received the 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igula, “little boots,” in the army camp of his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 descendant of Augustus and a great nephew of Tiberiu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 adopted by the Emperor and at age 26 inherited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Soon intoxicated by power, he claimed to be a god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that his horse be elected cons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Insisted that a statue of Zeus in his own likeness be er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Jewish temple at Jerusa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Assassinated in A.D. 41 before the Jerusalem temple w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ecrated. The Senate cursed his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689400" y="0"/>
            <a:ext cx="10118160" cy="69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Claudius, A.D. 41–5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95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 50 year-old uncle of Caligula, made emperor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etorian gu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95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Crippled and ill-favored, Augustus had been ashamed for h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ppear in 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95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dded most of Britain and other domains to the Emp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95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Expelled Jews from Rome in A.D. 49.  Ruled through m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active ministry of Pa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95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An able administrator, organized efficient government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95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Poisoned by his fourth wife, Agrippina after she persuaded h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Nero, her son by a previous marriage, his heir inste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is son Britannic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637920" y="0"/>
            <a:ext cx="10101240" cy="68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Nero, A.D. 54–6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60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Became Emperor at age 17. Did well during his first ye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the guidance of the philosopher Seneca and the milit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er Burr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60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Warming to his power, within six years he contrived the mur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is advisors, Seneca among them, Britannicus, his moth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is wife Octavia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60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Shocked aristocratic Romans by entering poetry and theatr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sts, as well as chariot ra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60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When Rome burned in A.D. 64, he placed the blame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s and killed many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60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War with the Jews broke out in A.D. 66. After initial suc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Jews, the Roman general Vespasian systematic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oyed all re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60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A revolt of legions in Spain and Gaul led to his suic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-720720" y="1087560"/>
            <a:ext cx="1024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Year of the Four Emperors, A.D. 6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Marked the end of the Julio-Claudian Emperors, so cal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all those from Augustus to Nero wore the family 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Julius or Claudi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Galba, Otho, and Vitellius in turn managed to get control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ies, allowing each to be Emperor for a few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Leaving the Judean War, Vespasian was declared Emper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is army in Egypt. Came to Rome and assumed the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462960" y="1398600"/>
            <a:ext cx="963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Vespasian, A.D. 69–7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is son Titus took command of the legions in Judea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oyed Jerusalem in A.D. 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Established a harmonious working relationship with the Sen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 wise and good Emperor, he engaged in a massive rebui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in Rom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48608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Titus, A.D. 79–8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Son of Vespasian who finished the Roman war in Judea, reduc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rusalem to ruins and 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Erected a great monument, the Arch of Titus, in Rom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morate his victory over the Je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nument still st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462240" y="0"/>
            <a:ext cx="9639720" cy="68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. Domitian, A.D. 81–9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65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 younger son of Vespasian whose political and administr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s fell considerably below those of his fa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65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Increasing tensions between the Emperor and the Sen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65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During the last year of his reign he insisted on being addre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g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65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Oppressed several religious and ethnic groups, including Je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hristi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65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Oppression of Christians accelerated, especially in Asia Min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he Christians were more numer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65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The last of the Flavian Emperors. Flavius was the family 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Vespasian, Titus, and Domiti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65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 After his death, the Senate cursed Domitian’s memory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had Nero’s. The Senate named the next Empe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998800" y="20304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Second Jour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58800" y="663408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482724" t="741908" r="727112" b="764736"/>
          <a:stretch/>
        </p:blipFill>
        <p:spPr>
          <a:xfrm>
            <a:off x="0" y="650880"/>
            <a:ext cx="914400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8680"/>
            <a:ext cx="9144000" cy="67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Second Missionary Journey, Par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Traveling Companion (Timothy) (16:1–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the Cities” (16:4,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roas: the “Macedonian Call” (16:6–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ling to Macedonia (16:11, 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hilippi: the Conversion of Lydia’s Household (16:13–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hilippi: the Healing of a Possessed Girl; Imprison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:16–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hilippi: the Conversion of the Jailer’s Househo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:25–3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hilippi: the Release from Prison (16:35–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368440" y="96840"/>
            <a:ext cx="45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Third Missionary Jour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58800" y="663408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638083" t="646069" r="797352" b="911883"/>
          <a:stretch/>
        </p:blipFill>
        <p:spPr>
          <a:xfrm>
            <a:off x="0" y="520560"/>
            <a:ext cx="914400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566709" t="604936" r="731021" b="931627"/>
          <a:stretch/>
        </p:blipFill>
        <p:spPr>
          <a:xfrm>
            <a:off x="0" y="665280"/>
            <a:ext cx="9144000" cy="5629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918520" y="9684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Journey to 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58800" y="663408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5378400"/>
            <a:ext cx="91440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fter Paul’s first Roman imprisonment: He may have gone to preach in Spain (1) (Rom. 15:24, 28), then Crete (2), where he left Titus (Tit. 1:5). Next, he left Trophimus in Miletus (3) (2 Tim. 4:20). He may have visited Philemon at Colossae (4) (Philem. 22), then Ephesus (5), where he left Timothy (1 Tim. 1:3). Paul would have stopped by Troas (6) (2 Tim. 4:13) on his way to Philippi (7) in Maced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(1 Tim. 1:3). His final stops would have included Corinth (8) (2 Tim.4:20) and Nicopolis (9) (Tit. 3:12), before returning toRome (10), where he was imprisoned and martyred (2 Tim. 4:6–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418467" r="116898" b="758014"/>
          <a:stretch/>
        </p:blipFill>
        <p:spPr>
          <a:xfrm>
            <a:off x="0" y="720720"/>
            <a:ext cx="9144000" cy="4560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168000" y="1731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Final Tra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58800" y="663408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-154080" y="6113520"/>
            <a:ext cx="94525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Palatino"/>
              </a:rPr>
              <a:t>PHILIPPI. The Egnatian Way, a major Roman road that would have been used by Paul in traveling to th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Palatino"/>
              </a:rPr>
              <a:t>Macedonian cities of Philippi, Amphipolis, Apollonia, and Thessalonica (16:12; 17:1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33200" y="214200"/>
            <a:ext cx="8890200" cy="5880240"/>
            <a:chOff x="133200" y="214200"/>
            <a:chExt cx="8890200" cy="588024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133200" y="214200"/>
              <a:ext cx="889020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133200" y="2182680"/>
              <a:ext cx="889020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>
              <a:off x="133200" y="4164120"/>
              <a:ext cx="8890200" cy="193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/>
          <p:nvPr/>
        </p:nvSpPr>
        <p:spPr>
          <a:xfrm>
            <a:off x="-146160" y="6608880"/>
            <a:ext cx="675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243000" y="277920"/>
            <a:ext cx="8673840" cy="5638680"/>
            <a:chOff x="243000" y="277920"/>
            <a:chExt cx="8673840" cy="563868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243000" y="277920"/>
              <a:ext cx="8673840" cy="28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243000" y="3097080"/>
              <a:ext cx="867384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"/>
          <p:cNvSpPr/>
          <p:nvPr/>
        </p:nvSpPr>
        <p:spPr>
          <a:xfrm>
            <a:off x="-57240" y="5991120"/>
            <a:ext cx="9358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PHILIPPI. The market place (agora), with a sixth-century church building (background). The Philippian chu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began in the first century with the conversion of the households of Lydia and the jailer (16:15,3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20" y="644364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287280" y="277920"/>
            <a:ext cx="8597880" cy="5867280"/>
            <a:chOff x="287280" y="277920"/>
            <a:chExt cx="8597880" cy="586728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287280" y="277920"/>
              <a:ext cx="859788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287280" y="3224160"/>
              <a:ext cx="8597880" cy="292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"/>
          <p:cNvSpPr/>
          <p:nvPr/>
        </p:nvSpPr>
        <p:spPr>
          <a:xfrm>
            <a:off x="2391840" y="6253200"/>
            <a:ext cx="444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PHILIPPI. Prison complex, containing the cell belo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000" y="649440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230040" y="277920"/>
            <a:ext cx="8686800" cy="5879880"/>
            <a:chOff x="230040" y="277920"/>
            <a:chExt cx="8686800" cy="587988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230040" y="277920"/>
              <a:ext cx="86868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230040" y="3224160"/>
              <a:ext cx="8686800" cy="293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"/>
          <p:cNvSpPr/>
          <p:nvPr/>
        </p:nvSpPr>
        <p:spPr>
          <a:xfrm>
            <a:off x="2030760" y="6291360"/>
            <a:ext cx="514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PHILIPPI. Traditional prison cell of Paul and Silas (16:23–25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20" y="654516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16920" y="6337440"/>
            <a:ext cx="481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ATHENS. Statue of Athena, the patron goddess of Athe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9920" y="658008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163600" y="157320"/>
            <a:ext cx="40831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847880" y="6303960"/>
            <a:ext cx="545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ATHENS. The Acropolis with the Parthenon dedicated to Athe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15880" y="277920"/>
            <a:ext cx="8128080" cy="5930640"/>
            <a:chOff x="515880" y="277920"/>
            <a:chExt cx="8128080" cy="59306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15880" y="277920"/>
              <a:ext cx="8128080" cy="29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515880" y="3249720"/>
              <a:ext cx="8128080" cy="29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"/>
          <p:cNvSpPr/>
          <p:nvPr/>
        </p:nvSpPr>
        <p:spPr>
          <a:xfrm>
            <a:off x="293760" y="654516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230040" y="277920"/>
            <a:ext cx="8686800" cy="5740200"/>
            <a:chOff x="230040" y="277920"/>
            <a:chExt cx="8686800" cy="574020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230040" y="277920"/>
              <a:ext cx="8686800" cy="29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230040" y="3160800"/>
              <a:ext cx="8686800" cy="28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>
            <a:off x="-65520" y="6113520"/>
            <a:ext cx="9255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ATHENS. The marketplace (agora) where Paul preached (17:17), with the Acropolis (upper left) and Mars’ 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(upper right). Mars’ Hill is the traditional site of Paul’s sermon to the Areopagus (17:22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20" y="654516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7398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Second Missionary Journey, Par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ssalonica (17:1–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rea: a “Noble-minded” People (17:10–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thens: Paul’s Spirit Stirred (17:16–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thens: the Sermon on (or to) the Areopagus (17:22–3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750960" y="246240"/>
            <a:ext cx="7988400" cy="5841720"/>
            <a:chOff x="750960" y="246240"/>
            <a:chExt cx="7988400" cy="584172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750960" y="246240"/>
              <a:ext cx="7988400" cy="29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750960" y="3166920"/>
              <a:ext cx="7988400" cy="292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"/>
          <p:cNvSpPr/>
          <p:nvPr/>
        </p:nvSpPr>
        <p:spPr>
          <a:xfrm>
            <a:off x="2274480" y="6234120"/>
            <a:ext cx="497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ATHENS. Reconstructed Stoa of Attalos in the marketpla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2400" y="648828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6040" y="6207120"/>
            <a:ext cx="9290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CORINTH. “Synagogue of the Hebrews” Inscription (2nd-3rd century A.D.) Paul began his mission work in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Jewish synagogue at Corinth (18:4), just as he had in other ci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66640" y="169920"/>
            <a:ext cx="7886880" cy="5943600"/>
            <a:chOff x="566640" y="169920"/>
            <a:chExt cx="7886880" cy="594360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566640" y="169920"/>
              <a:ext cx="7886880" cy="30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566640" y="3154320"/>
              <a:ext cx="7886880" cy="295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81000" y="665496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230040" y="480960"/>
            <a:ext cx="8686800" cy="5194440"/>
            <a:chOff x="230040" y="480960"/>
            <a:chExt cx="8686800" cy="519444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230040" y="480960"/>
              <a:ext cx="8686800" cy="26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230040" y="3084480"/>
              <a:ext cx="8686800" cy="259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"/>
          <p:cNvSpPr/>
          <p:nvPr/>
        </p:nvSpPr>
        <p:spPr>
          <a:xfrm>
            <a:off x="-102240" y="5873760"/>
            <a:ext cx="9153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CORINTH. Erastus Inscription: “Erastus in return for his aedileship laid [the pavement] at his own expense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He was a public official and a Christian (Rom. 16:2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20" y="644364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230040" y="277920"/>
            <a:ext cx="8686800" cy="5715000"/>
            <a:chOff x="230040" y="277920"/>
            <a:chExt cx="8686800" cy="57150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230040" y="277920"/>
              <a:ext cx="868680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230040" y="3147840"/>
              <a:ext cx="8686800" cy="284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>
            <a:off x="-65160" y="6141960"/>
            <a:ext cx="9266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CORINTH. The judgment seat (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bema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) where Paul was brought before Gallio (18:12). Acrocorinth (backgrou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where the Temple of Aphrodite was loc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520" y="659592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490680" y="277920"/>
            <a:ext cx="8204040" cy="5664240"/>
            <a:chOff x="490680" y="277920"/>
            <a:chExt cx="8204040" cy="566424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490680" y="277920"/>
              <a:ext cx="8204040" cy="28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490680" y="3110040"/>
              <a:ext cx="8204040" cy="28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"/>
          <p:cNvSpPr/>
          <p:nvPr/>
        </p:nvSpPr>
        <p:spPr>
          <a:xfrm>
            <a:off x="429480" y="6037200"/>
            <a:ext cx="8242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EPHESUS. Ruins of the Temple of Artemis, of which the city of Ephesus was “guardian” (19:27,35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Only one column has been reconstruc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200" y="649620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2136600" y="25560"/>
            <a:ext cx="4346640" cy="6387480"/>
            <a:chOff x="2136600" y="25560"/>
            <a:chExt cx="4346640" cy="638748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2136600" y="25560"/>
              <a:ext cx="4346640" cy="322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2136600" y="3227760"/>
              <a:ext cx="4336560" cy="318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"/>
          <p:cNvSpPr/>
          <p:nvPr/>
        </p:nvSpPr>
        <p:spPr>
          <a:xfrm>
            <a:off x="2061000" y="6481800"/>
            <a:ext cx="445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EPHESUS. Statue of Artemis of the Ephesians (19:27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82520" y="668484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7600" y="6075360"/>
            <a:ext cx="90198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EPHESUS. Theater where the riot took place (19:29), viewed from above, along with Arcadius Street whi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erminated at the harb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43000" y="277920"/>
            <a:ext cx="8673840" cy="5664240"/>
            <a:chOff x="243000" y="277920"/>
            <a:chExt cx="8673840" cy="566424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243000" y="277920"/>
              <a:ext cx="8673840" cy="19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243000" y="2182680"/>
              <a:ext cx="8673840" cy="19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243000" y="4075200"/>
              <a:ext cx="8673840" cy="186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/>
          <p:cNvSpPr/>
          <p:nvPr/>
        </p:nvSpPr>
        <p:spPr>
          <a:xfrm>
            <a:off x="20520" y="654516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585720" y="220680"/>
            <a:ext cx="7988400" cy="5880240"/>
            <a:chOff x="585720" y="220680"/>
            <a:chExt cx="7988400" cy="588024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585720" y="220680"/>
              <a:ext cx="79884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585720" y="3166920"/>
              <a:ext cx="7988400" cy="293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"/>
          <p:cNvSpPr/>
          <p:nvPr/>
        </p:nvSpPr>
        <p:spPr>
          <a:xfrm>
            <a:off x="330480" y="6195960"/>
            <a:ext cx="85183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JERUSALEM. Model of the Herodian Temple, viewed from the northeast.  Antonia Fortress is loca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on the right (“the barracks,” 21:37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0120" y="665316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-100800" y="6013440"/>
            <a:ext cx="9345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JERUSALEM. Temple Warning Inscription (21:29): “No man of another nation [is] to enter within the fenc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enclosure around the temple, and whoever is caught will have himself to blame if death ensues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51000" y="277920"/>
            <a:ext cx="8445240" cy="5613120"/>
            <a:chOff x="351000" y="277920"/>
            <a:chExt cx="8445240" cy="561312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351000" y="277920"/>
              <a:ext cx="8445240" cy="18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351000" y="2144880"/>
              <a:ext cx="8445240" cy="18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351000" y="4024440"/>
              <a:ext cx="8445240" cy="186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"/>
          <p:cNvSpPr/>
          <p:nvPr/>
        </p:nvSpPr>
        <p:spPr>
          <a:xfrm>
            <a:off x="27000" y="649620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681120" y="277920"/>
            <a:ext cx="7797600" cy="5740200"/>
            <a:chOff x="681120" y="277920"/>
            <a:chExt cx="7797600" cy="574020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681120" y="277920"/>
              <a:ext cx="7797600" cy="29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681120" y="3160800"/>
              <a:ext cx="7797600" cy="28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"/>
          <p:cNvSpPr/>
          <p:nvPr/>
        </p:nvSpPr>
        <p:spPr>
          <a:xfrm>
            <a:off x="447840" y="6113520"/>
            <a:ext cx="8260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CAESAREA. Theater which, according to Josephus, was the place where Herod was praised by h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audiences as a god (12:21–2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3960" y="657216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1923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Second Missionary Journey, Part 4–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Third Missionary Journey, 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ear and a Half at Corinth (18:1–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Returns to Antioch in Syria by Way of Ephes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8:18–2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ginning of the Third Missionary Journey (18: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roduction of an Eloquent Preacher (Apollo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8:24–2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26360" y="6100920"/>
            <a:ext cx="85518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CAESAREA. Herodian harbor from which Paul began his turbulent trip to Rome (27:1,2). This journ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followed his two years of imprisonment n Caesarea (24:27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49120" y="277920"/>
            <a:ext cx="8661600" cy="5740200"/>
            <a:chOff x="249120" y="277920"/>
            <a:chExt cx="8661600" cy="574020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249120" y="277920"/>
              <a:ext cx="8661600" cy="19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2"/>
            <a:stretch/>
          </p:blipFill>
          <p:spPr>
            <a:xfrm>
              <a:off x="249120" y="2195640"/>
              <a:ext cx="8661600" cy="19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249120" y="4100400"/>
              <a:ext cx="8661600" cy="191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"/>
          <p:cNvSpPr/>
          <p:nvPr/>
        </p:nvSpPr>
        <p:spPr>
          <a:xfrm>
            <a:off x="27000" y="659592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39720" y="6469200"/>
            <a:ext cx="565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ROME.  Arch of Titus, celebrating Jerusalem’s destruction (A.D. 70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73360" y="0"/>
            <a:ext cx="5110200" cy="6403680"/>
            <a:chOff x="1773360" y="0"/>
            <a:chExt cx="5110200" cy="640368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1773360" y="0"/>
              <a:ext cx="5110200" cy="323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1773360" y="3217680"/>
              <a:ext cx="5110200" cy="31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"/>
          <p:cNvSpPr/>
          <p:nvPr/>
        </p:nvSpPr>
        <p:spPr>
          <a:xfrm>
            <a:off x="1143000" y="666756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-52560" y="6100920"/>
            <a:ext cx="884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ROME. Relief inside the Arch of Titus, featuring the triumphal procession with items plundered from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Jewish Temple, including the lampstand (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menorah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30040" y="277920"/>
            <a:ext cx="8686800" cy="5715000"/>
            <a:chOff x="230040" y="277920"/>
            <a:chExt cx="8686800" cy="571500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230040" y="277920"/>
              <a:ext cx="8686800" cy="19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230040" y="2182680"/>
              <a:ext cx="8686800" cy="19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3"/>
            <a:stretch/>
          </p:blipFill>
          <p:spPr>
            <a:xfrm>
              <a:off x="230040" y="4087800"/>
              <a:ext cx="8686800" cy="19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"/>
          <p:cNvSpPr/>
          <p:nvPr/>
        </p:nvSpPr>
        <p:spPr>
          <a:xfrm>
            <a:off x="20520" y="659592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535920" y="6259680"/>
            <a:ext cx="19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ROME. The Colosseu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30040" y="284040"/>
            <a:ext cx="8686800" cy="5791320"/>
            <a:chOff x="230040" y="284040"/>
            <a:chExt cx="8686800" cy="579132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230040" y="284040"/>
              <a:ext cx="8686800" cy="19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230040" y="2227320"/>
              <a:ext cx="8686800" cy="19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3"/>
            <a:stretch/>
          </p:blipFill>
          <p:spPr>
            <a:xfrm>
              <a:off x="230040" y="4157640"/>
              <a:ext cx="8686800" cy="191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/>
          <p:cNvSpPr/>
          <p:nvPr/>
        </p:nvSpPr>
        <p:spPr>
          <a:xfrm>
            <a:off x="20520" y="658980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1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034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Third Missionary Journey, Par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phesus: Twelve Disciples Re-immersed (19:1–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phesus: Paul’s Ministry and Plans (19:8–2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phesus: Adversaries (19:23–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7384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Third Missionary Journey, Par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s to Macedonia, Greece, and Troas (20:1–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roas: a Lord’s Day Meeting (20:7–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Way to Jerusalem (20:13–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iletus: a Serious Talk to the Ephesian Elders (20:17–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748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Third Missionary Journey, Part 4–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Arrest in Jerusa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o Jerusalem by Way of Tyre, Ptolemais, and Caes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1:1–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Tries to Avoid Criticism (21:18–2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Arrested (21:27–3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’s Opportunity to Defend Himself (21:37–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05240"/>
            <a:ext cx="9144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Imprisonment at Jerusalem, 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’s Defense (22:1–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plexed Commander (22:22–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3:06:51Z</dcterms:created>
  <dc:creator>Ken Kendall Ball</dc:creator>
  <dc:description/>
  <dc:language>en-US</dc:language>
  <cp:lastModifiedBy>Truth for Today</cp:lastModifiedBy>
  <dcterms:modified xsi:type="dcterms:W3CDTF">2005-07-28T20:33:44Z</dcterms:modified>
  <cp:revision>43</cp:revision>
  <dc:subject/>
  <dc:title>PowerPoint Presentation</dc:title>
</cp:coreProperties>
</file>